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324-1896-4490-B60E-391AA4E3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574-A94F-4784-8B41-76E275FB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B98-4DA3-42AC-80C7-83DBEF47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BEC-A072-4F59-8CC7-5BA7F662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D0B8-9C3B-4D4C-A8FB-D29FA045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1B07-DD1E-4E0A-9607-4DD79096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3BCC-A8BB-49DA-8AE3-00291C75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1592-C102-4CF1-9BED-EC05ED2A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5886-B9D4-4551-91AA-DD8E55A0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D19A-BD34-4769-9D1C-BE275841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67E5-A1B0-453F-A638-C7F1565D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CEE-5B74-41B7-AF72-E742EEF7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6294-E4A7-49FA-A0FC-8BB439D0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D672-D6AF-47A3-B4CB-0AFBFDB4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4095-7C06-4D91-8678-2DEB31F2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8B25-4766-4FAE-8E02-BDE42C9F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F7C7-2131-468E-8374-F7FDDBAE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4C4-F0DD-4766-A105-F9616324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943-5993-4710-A4C9-30AC59BC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44D-7271-4490-AFBF-FEF330EE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E4D-20CF-4B78-9A33-0626463F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D76-2CD8-4B32-B055-883011C2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7DC-EEEF-424C-AD81-616AB3D1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36E-7645-4A9E-9323-7DF71C40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0E7A-EBBA-460B-8107-A108EE5E968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FB0F-AFAC-4944-80B7-4857F55806C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stowarzyszenie.borelioza@gazeta.pl" TargetMode="External"/><Relationship Id="rId2" Type="http://schemas.openxmlformats.org/officeDocument/2006/relationships/hyperlink" Target="mailto:stowarzyszenie.borelioza@gmail.com" TargetMode="External"/><Relationship Id="rId3" Type="http://schemas.openxmlformats.org/officeDocument/2006/relationships/hyperlink" Target="http://www.borelioza.org/" TargetMode="Externa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37000"/>
            <a:ext cx="79200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eaeaea"/>
                </a:solidFill>
                <a:latin typeface="Arial"/>
              </a:rPr>
              <a:t>Borelioza i inne choroby odkleszczowe- zagrożeniem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eaeaea"/>
                </a:solidFill>
                <a:latin typeface="Arial"/>
              </a:rPr>
              <a:t>dla pracowników leśnych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22552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476360" y="522936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Przygotowała: dr n. med. Edyta Gałęziowsk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4000" cy="550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zerwuar bakteri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ponad 300 gatunków ssaków, ptaków i gadów (głównie drobnych gryzoni z rodzin nornikowatych i myszowatych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w przenoszeniu choroby istotną rolę mogą odgrywać także inne zwierzęta wolno żyjące, np. jelenie, sarny, wilki oraz domowe, np. psy, konie, owce, krow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Wtargnięcie do organizmu człowieka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 jest znany bezpieczny czas przebywania zarażonego kleszcza w skórze człowiek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 jest znana minimalna ilość bakterii, która powoduje rozwój chorob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Arial"/>
              </a:rPr>
              <a:t>Bakteria Borrelia burgdorfer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3059280" cy="2006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40360" cy="2649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136680" cy="2567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500720" y="4076640"/>
            <a:ext cx="403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aeaea"/>
                </a:solidFill>
                <a:latin typeface="Arial"/>
              </a:rPr>
              <a:t>Polimorfizm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aeaea"/>
                </a:solidFill>
                <a:latin typeface="Arial"/>
              </a:rPr>
              <a:t>Kręte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aeaea"/>
                </a:solidFill>
                <a:latin typeface="Arial"/>
              </a:rPr>
              <a:t>Forma L (bez ściany komórkowej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aeaea"/>
                </a:solidFill>
                <a:latin typeface="Arial"/>
              </a:rPr>
              <a:t>Cys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aeaea"/>
                </a:solidFill>
                <a:latin typeface="Arial"/>
              </a:rPr>
              <a:t>Spory- pęcherzyki (blebs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ecff"/>
                </a:solidFill>
                <a:latin typeface="Arial"/>
              </a:rPr>
              <a:t>Borrelia burgdorfer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Przemieszcza się głównie przez tkankę łączną i ściany naczyń krwionośnych </a:t>
            </a: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→ rzadziej bytuje w płynach (krew, płyn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m.-rdz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We wczesnym okresie, tuż po wtargnięciu do organizmu człowieka, rozsiewa się szybko głównie drogą krw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99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zybkość rozprzestrzeniania się w organizmie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Kilka dni po zakażeniu bakterie są obecne w mózgu, sercu, mięśniach, ścięgnach (</a:t>
            </a:r>
            <a:r>
              <a:rPr b="0" lang="pl-PL" sz="2000" spc="-1" strike="noStrike">
                <a:solidFill>
                  <a:srgbClr val="eaeaea"/>
                </a:solidFill>
                <a:latin typeface="Arial"/>
              </a:rPr>
              <a:t>modele zwierzęce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Zmiany w płynie m.-rdz., pierwsze objawy neurologiczne mogą być obecne już w rumieniu wędrujący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Badaniem real time PCR materiał genetyczny bakterii (DNA) wykrywany jest we krwi już po kilkunastu godzinach od ukąszenia przez kleszcza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OSTACIE CHOROBY- podział umown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eaeaea"/>
                </a:solidFill>
                <a:latin typeface="Arial"/>
              </a:rPr>
              <a:t>1) </a:t>
            </a:r>
            <a:r>
              <a:rPr b="1" lang="pl-PL" sz="2200" spc="-1" strike="noStrike">
                <a:solidFill>
                  <a:srgbClr val="00cc66"/>
                </a:solidFill>
                <a:latin typeface="Arial"/>
              </a:rPr>
              <a:t>Wczesny okres choroby:</a:t>
            </a:r>
            <a:r>
              <a:rPr b="0" lang="pl-PL" sz="2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eaeaea"/>
                </a:solidFill>
                <a:latin typeface="Arial"/>
              </a:rPr>
              <a:t>postać ograniczona – rumień wędrujący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eaeaea"/>
                </a:solidFill>
                <a:latin typeface="Arial"/>
              </a:rPr>
              <a:t>postać rozsiana – rumień wędrujący mnogi, wczesna neuroborelioza, zapalenie stawów, mięśnia sercowego, inne zmiany narządowe (objawy trwają nie dłużej, niż rok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eaeaea"/>
                </a:solidFill>
                <a:latin typeface="Arial"/>
              </a:rPr>
              <a:t>2) </a:t>
            </a:r>
            <a:r>
              <a:rPr b="1" lang="pl-PL" sz="2200" spc="-1" strike="noStrike">
                <a:solidFill>
                  <a:srgbClr val="00cc66"/>
                </a:solidFill>
                <a:latin typeface="Arial"/>
              </a:rPr>
              <a:t>Późny okres choroby</a:t>
            </a:r>
            <a:r>
              <a:rPr b="0" lang="pl-PL" sz="2200" spc="-1" strike="noStrike">
                <a:solidFill>
                  <a:srgbClr val="eaeaea"/>
                </a:solidFill>
                <a:latin typeface="Arial"/>
              </a:rPr>
              <a:t> – zakażenie przewlekłe: zmiany narządowe utrzymujące się przez co najmniej 12 mies. </a:t>
            </a:r>
            <a:br>
              <a:rPr sz="2200"/>
            </a:br>
            <a:br>
              <a:rPr sz="2200"/>
            </a:br>
            <a:br>
              <a:rPr sz="700"/>
            </a:b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26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Rumień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jawia się na przestrzeni jednego miesiąca po ukąszeniu przez kleszcz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ystępuje u ok. 30-70% chorych na boreliozę (w zależności od badań i kraju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zasami towarzyszą mu objawy grypopodob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ypowy rumień w boreliozie:</a:t>
            </a:r>
            <a:br>
              <a:rPr sz="32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ma średnice ponad 5 cm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- ciemniejszą otoczkę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-powoli znikające, blednące od środka wnętrze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-czasami nieco wypukły pierścień otaczając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419640" y="285264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95280" y="4581360"/>
            <a:ext cx="8136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zasami zamiast rumienia jest nietypowa wysypka czy zaczerwienieni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it: „Nie było rumienia- nie ma podejrzenia choroby 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22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BJAWY BORELIOZY</a:t>
            </a:r>
            <a:br>
              <a:rPr sz="28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zwłaszcza postaci późnych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263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Choroba może się ujawnić od razu po ukąszeniu przez kleszcza, a także po wielu tygodniach, miesiącach i latach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Lista dra Burrascano-  ok.60 objawów kontrolny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Lista objawów nie jest peł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„</a:t>
            </a: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Każda borelioza jest inna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Mogą występować objawy z każdego układu i narząd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Cecha wspólna objawów- zazwyczaj zauważony jest moment ich pojawienia się ; pojawia się ich przynajmniej kilka nara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Wiele różnorodnych objawów </a:t>
            </a:r>
            <a:r>
              <a:rPr b="1" lang="pl-PL" sz="2400" spc="-1" strike="noStrike">
                <a:solidFill>
                  <a:srgbClr val="eaeaea"/>
                </a:solidFill>
                <a:latin typeface="Arial"/>
                <a:ea typeface="Arial"/>
              </a:rPr>
              <a:t>→ wiele różnych chorób → nieprawidłowe rozpoznanie; leczenie kilku chorób równocześnie, bez znaczącej popraw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26920" y="1598760"/>
            <a:ext cx="7848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1975r. - pierwszy raz opisano chorobę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1981r.- Willy Burgdorfer zidentyfikował bakterię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7280" y="83664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zykłady objawów w boreliozie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aeaea"/>
                </a:solidFill>
                <a:latin typeface="Arial"/>
              </a:rPr>
              <a:t>Układ nerwowy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drętwienia, porażenia nerwów, bóle i zawroty głowy, problemy z pamięcią, koncentracją uwagi, napady padaczkowe, agresja, utrata czucia, zaburzenia orientacji, problemy z wymową, zapominanie słów, otumanienie, stany depresyjne, zmienność emocjonalna, nadwrażliwość na światło, dźwięki, zapachy, nerwobóle itp.,  Itd…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zykłady objawów w boreliozie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pl-PL" sz="3200" spc="-1" strike="noStrike">
                <a:solidFill>
                  <a:srgbClr val="eaeaea"/>
                </a:solidFill>
                <a:latin typeface="Arial"/>
              </a:rPr>
              <a:t>Układ krążen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przyspieszone, nierówne bicie serca, skaczące ciśnienie, bloki serca, kardiomiopatie (powiększenie serca), szmery w sercu, problemy zastawkow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eaeaea"/>
                </a:solidFill>
                <a:latin typeface="Arial"/>
              </a:rPr>
              <a:t>Narząd wzroku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męty, kłaczki w polu widzenia, światłowstręt, światełka, zapalenie spojówk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8226360" cy="3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zykłady objawów w boreliozie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arząd ruchu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óle stawów, mięśni, kości, zaniki mięśniowe (obręcz barkowa), trzeszczenie szyi, sztywność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bjawy ogóln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Zmęczenie, osłabienie, problemy ze snem, zmiany cyklu wypróżnień, bóle gardła, bóle jąder, zmiany masy ciała, wypadanie włosów , utrata libido lub sprawności seksualnej, nasilona choroba lokomocyjna, dreszcze, fale gorąca, obniżona/ podwyższona temperatura ciał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2636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Błędne diagnozy lub podejrzenia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Stwardnienie rozsiane (S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Stwardnienie zanikowe bocz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Zespół przewlekłego zmęczen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Padaczk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Depres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Nerwi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Reumatyczne zapalenie stawó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Choroby z autoagresj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Choroba Alzheim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Fibromial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I inne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ecff"/>
                </a:solidFill>
                <a:latin typeface="Arial"/>
              </a:rPr>
              <a:t>Borrelia burgdorferi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Bb sensu stricte </a:t>
            </a: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→ przede wszystkim staw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B. garinii → głównie układ nerwow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B afzelii → głównie skór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Zazwyczaj towarzyszą koinfekcje odkleszczow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RÓŻNORODNOŚĆ OBJAWÓ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iagnostyka laboratoryjn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2636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Testy badające odpowiedź immunologiczną organizmu (ELISA, Western Blot)- badania serologicz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Testy wykrywające materiał genetyczny bakterii (PCR i real time PC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Hodow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rudności z diagnostyką serologiczną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Długi czas tworzenia się przeciwciał po zakażeniu (4-6 tygodn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Bytowanie wewnątrzkomórkowe bakteri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Posiadanie przez bakterię otoczki z proteoglikanów (osłonka śluzowa) </a:t>
            </a:r>
            <a:r>
              <a:rPr b="0" lang="pl-PL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 układ odpornościowy jej nie widz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Zmienność antygenowa bakteri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rudności z diagnostyką serologiczną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zebywanie bakterii w obszarach immunologicznie uprzywilejowanych (mózg, aparat ruchu, przestrzenie wewnątrzkomórkow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rak wolnych przeciwciał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cześnie zastosowana antybiotykoterap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łaba odpowiedź immunologiczna lub jej brak (defekt immunologiczn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26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tosowane testy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052280"/>
            <a:ext cx="82263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cc66"/>
                </a:solidFill>
                <a:latin typeface="Arial"/>
              </a:rPr>
              <a:t>Metoda ELISA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55-70% wyników fałszywy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cc66"/>
                </a:solidFill>
                <a:latin typeface="Arial"/>
              </a:rPr>
              <a:t>Metoda Western Blot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Nie ma wyników fałszywie pozytywnych, jednak zdarzają się wyniki fałszywie negatyw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cc66"/>
                </a:solidFill>
                <a:latin typeface="Arial"/>
              </a:rPr>
              <a:t>PC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Najwyższa swoistość; technika real time PCR ma czułość 5 kopii DNA (PCR tradycyjny- ok. 500 kopii); wyniki fałszywie negatywne mogą się zdarzać w wieloletniej, nieleczonej chorobi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8226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eaeaea"/>
                </a:solidFill>
                <a:latin typeface="Arial"/>
              </a:rPr>
              <a:t>W okresie póżnym brak potwierdzenia laboratoryjnego choroby mimo jej aktywności,  dotyczy ok. 15%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pl-PL" sz="4000" spc="-1" strike="noStrike">
                <a:solidFill>
                  <a:srgbClr val="eaeaea"/>
                </a:solidFill>
                <a:latin typeface="Arial"/>
              </a:rPr>
              <a:t>osób chorych…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263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YTUACJA EPIDEMIOLOGICZ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icjalnie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9-10/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100 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ZH: „Dane te są zaniżone nawet 10-krotni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         ↓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Szacunkowo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ok.40 000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rocznie nowych zachorowań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Oficjalnie zgłoszone przypadki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1.01.-31.12.2006r.- 667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1.01.-31.12.2007 – 77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1.01.-30.04.2007r.-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1.01.-30.04.2008r.-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1767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(od 2008r. laboratoria nie mają już obowiązku zgłaszania pozytywnego wyniku badań w kierunku boreliozy-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sztuczny spadek zachorowań, mimo zwiększonego ryzyka (łagodna zim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A pracownicy leśni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Kontrowersje w podejściu do borelioz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aeaea"/>
                </a:solidFill>
                <a:uFillTx/>
                <a:latin typeface="Arial"/>
              </a:rPr>
              <a:t>Oficjalne podejście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: „Borelioza to choroba rzadko występująca, łatwa do diagnostyki i skutecznie uleczalna 2-3 tyg. terapią antybiotykową” </a:t>
            </a:r>
            <a:r>
              <a:rPr b="0" lang="pl-PL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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 choroba stosunkowo niedawno odkryta, kojarzona tylko z rumieni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aeaea"/>
                </a:solidFill>
                <a:uFillTx/>
                <a:latin typeface="Arial"/>
              </a:rPr>
              <a:t>Mniej oficjalne podejście-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 jak inne choroby, wywołane krętkami (np. kiła), borelioza nie jest ani łatwo diagnozowana, ani tym bardziej łatwo wyleczalna; na podstawie doświadczeń w leczeniu kiły, trądu czy gruźlicy należy przyjąć, że leczenie boreliozy musi być wielomiesięczne, a jedynym wyznacznikiem do zakonczenia terapii jest ustąpienie wszelkich objawów, które nie były obecne przez zachorowani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Kontrowersje w podejściu do borelioz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 ma testu diagnostycznego, który potwierdziłby, że chory został wyleczo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 jest znany skuteczny standard leczenia boreliozy (bo nie ma testu potwierdzającego)- nie ma badań na ten te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orzy powinni wiedzieć o istniejących kontrowersjach w medycynie na temat boreliozy i zgodnie z prawami pacjenta wybrać sposób lecz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2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Jak można rozstrzygnąć istniejące kontrowersje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2060280"/>
            <a:ext cx="82263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dawać, że problemu nie 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U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zeprowadzić rzetelne, powtarzalne badania naukowe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bowiązujący standard diagnostyki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 leczenia borelioz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Polski standard, oparty na wytycznych europejskich, opracowany został przez grupę lekarzy pod kierunkiem prof. R. Flisiak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Standardy europejskie jako podstawę mają wytyczne z US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Standardy diagnostyki i leczenia boreliozy obowiązujące w USA,opracowane przez IDSA, po wielomiesięcznym rozpatrywaniu sprawy,  zostały zakwestionowane w maju 2008r. przez prokuratora generalnego Blumenthala, a ich twórcom zarzucono działania na szkodę osób chorych na boreliozę i inne choroby odkleszczowe oraz działania na  korzyść firm ubezpieczeniowych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Z CZEGO WYNIKAJĄ TRUDNOŚCI W LECZENIU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Brak testu, umożliwiającego monitoring leczen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Koinfekcje odkleszczowe</a:t>
            </a: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 (erlichia, babesja, bartonella, mykoplazmy i inn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Polimorfizm bakterii ( </a:t>
            </a:r>
            <a:r>
              <a:rPr b="1" lang="pl-PL" sz="2400" spc="-1" strike="noStrike">
                <a:solidFill>
                  <a:srgbClr val="eaeaea"/>
                </a:solidFill>
                <a:latin typeface="Arial"/>
                <a:ea typeface="Arial"/>
              </a:rPr>
              <a:t>→ </a:t>
            </a: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różne antybiotyki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Przebywanie bakterii poza barierą krew- móz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Przebywanie bakterii w miejscach trudno dostępnych dla antybiotyków (m.in.stawy, OUN, narząd wzroku, blizny, miazga zębow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Brak powtarzalnych badań klinicznych, kontrowersje w leczeni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Wrażliwość bakterii na wyższe dawki antybiotyków (wymagane doświadczenie lekarza i kontakt na bieżąco z pacjente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Borelioza- późny okres choroby 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zadko bywa bezpośrednią przyczyną śmier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niża wydatnie jakość ży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aburza życie zawodowe, społeczne, rodzin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orzy są traktowani jak hipochondry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je poważne objawy, których nie da się zaakceptować ani żyć „pomimo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ROFILAKTYK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226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kładne oglądanie ciała po wyprawie do lasu, parku, na łąkę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sowanie repelentó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dpowiedni ubiór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tybiotyk po ukąszeniu przez kleszcz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26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ŁÓWNE PROBLEM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eaeaea"/>
                </a:solidFill>
                <a:latin typeface="Arial"/>
              </a:rPr>
              <a:t>Jak ograniczyć populację kleszczy? 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eaeaea"/>
                </a:solidFill>
                <a:latin typeface="Arial"/>
              </a:rPr>
              <a:t>Jak zaprojektować odpowiedni ubiór?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eaeaea"/>
                </a:solidFill>
                <a:latin typeface="Arial"/>
              </a:rPr>
              <a:t>Jak zwiększyć świadomość chorób odkleszczowych?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eaeaea"/>
                </a:solidFill>
                <a:latin typeface="Arial"/>
              </a:rPr>
              <a:t>Jak zapewnić szybką  diagnostykę oraz wdrożenie leczenia?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eaeaea"/>
                </a:solidFill>
                <a:latin typeface="Arial"/>
              </a:rPr>
              <a:t>Jak wyeliminować metodę ELISA z diagnostyki boreliozy?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ETODA ELISA- dlaczego jest nadal stosowana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jtańsza metoda; zazwyczaj sprawdza się w diagnostyce innych choró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świadomość lekarzy o jej małej przydatności w diagnostyce borelioz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dostatki wiedzy lekarzy o nowoczesnych metodach diagnostycznych tej chorob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Metoda ELISA- dlaczego nie stosować? Przykłady nieciekawych wyników badań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2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ylewska- Wierzbanowska S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Chmielewski T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Limitation of serological testing for Lome borreliosis: Evaluation of ELISA and Western Blotin comparison with PCR and culture methods, Wien Klin Wochenschr 2002, 114/ 13-14, s. 601- 60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kken LL, Callister SM, Wand PJ, Schell RF: Interlaboratory Comparison of Test Results for the Detection of Lyme Disease by 516 Participiants in teh Wisconsin State Lab of Hygene/ College of American Pathologists proficiency Testing Program, J Clin Microbiol 1997, vol. 35, 3, s. 532-54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5400" y="1052280"/>
            <a:ext cx="82263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ŁY OBSZAR POLSKI TO TEREN ENDEMICZNY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śli choroba nie występuje na jakimś obszarze, to znaczy, że nie jest rozpoznawana prawidłow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 ma terenów bezpiecznych, wolnych od zarażonych kleszcz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ybrane polskie publikacje o trudnościach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w diagnostyce borelioz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Witecka- Knysz E, Klimczak M, Lakwa K, Żajkowska J, Pancewicz S, Kondrusik M, Grzegorczuk S, Świerzbińska R, Hermanowska- Szpakowicz T: Borelioza: dlaczego diagnostyka jest taka trudna? Diagnosta Laboratoryjny, kwiecień 200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Wodecka B: Metody polecane w boreliozie z Lyme, Biologia molekularna patogenów przenoszonych przez kleszcze, Skotarczak B (red.), PZWL, 2006, s. 142-14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2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Jak to jest żyć z boreliozą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zypomnij sobie, jak się czujesz, kiedy dopada Cię grypa. Bóle i zawroty głowy, bóle oczu, mięśni, kości, stawów, znaczne osłabienie, trudności ze skupieniem uwagi, bezsenność lub nadmierna senność, problemy z pamięcią… To są jedne z podstawowych dolegliwości w boreliozie. Grypa mija po paru dniach, a borelioza nie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TOWARZYSZENIE CHORYCH NA BORELIOZĘ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22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Zostało wpisane do rejestru na początku 2007rok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ziała na rzecz chorych na boreliozę (zwłaszcza w stadium późnym) i ich rodz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dejmuje działania w celu zwrócenia uwagi decydentów, środowisk medycznych, na problemy z diagnostyką i leczeniem tej chorob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Śledzi najnowsze postępy w profilaktyce, diagnostyce i leczeniu boreliozy i stara się informować o nich opinię publiczn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ara się budować w społeczeństwie świadomość zagrożenia, wynikającego z chorób przenoszonych przez kleszcze, w tym przede wszystkim borelioz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rezentuje interesy chorych i podejmuje działania, aby ograniczyć ignorancję ich problemów ze strony środowiska medyczne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st Stowarzyszeniem ogólnopolskim, zrzeszającym chorych i członków ich rodzin z terenu całej Pols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statnie działania Stowarzyszenia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Zapytanie poselskie do Ministra Zdrowia w sprawie diagnostyki i leczenia borelio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Zgłoszenie uwag do projektu rekomendacji w sprawie diagnostyki i leczenia borelioz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dział w programach radiowych i telewizyjnych poświęconych chorobie i życiu z ni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zyskanie statusu Organizacji Pożytku Publicznego (możliwość pozyskiwania 1% podatku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(Szczegółowe informacje na stronie internetowej Stowarzyszenia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5400" y="549000"/>
            <a:ext cx="822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ecff"/>
                </a:solidFill>
                <a:latin typeface="Arial"/>
              </a:rPr>
              <a:t>Kontakt ze Stowarzyszeniem</a:t>
            </a: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e-mail: </a:t>
            </a:r>
            <a:r>
              <a:rPr b="0" lang="pl-PL" sz="24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stowarzyszenie.borelioza@gazeta.p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lub:  </a:t>
            </a:r>
            <a:r>
              <a:rPr b="0" lang="pl-PL" sz="24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stowarzyszenie.borelioza@gmail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Tel. kom.: 0 692 890 751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Zapisz się- ta organizacja reprezentuje także i Ciebi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www.borelioza.or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427640" y="5877000"/>
            <a:ext cx="38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5445000"/>
            <a:ext cx="43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ziękuję za uwagę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8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jczęstsze miejsca przebywania kleszczy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lgotne lasy, porośnięte dzikim bzem, olchą,  paprociam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2184480" cy="2305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2303640" cy="172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68360" y="306864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ługość: 0,5-3 m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932360" y="907920"/>
            <a:ext cx="2481120" cy="1860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4859280" y="3976560"/>
            <a:ext cx="3565440" cy="213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168360" cy="2376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39640" y="3933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warz” kleszcza w mikroskopie elektronowy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003640" y="476280"/>
            <a:ext cx="3095640" cy="2322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780000" y="306864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łowa kleszcza w skórze człowiek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93080" y="414972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parat gębowy kleszcz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4000" y="2637000"/>
            <a:ext cx="3097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tadia rozwojowe kleszcza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arw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imf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ostać dorosła (imago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907920"/>
            <a:ext cx="32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ykl rozwojowy kleszcza trwa ok. 2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4461120" cy="554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65642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Odporność na głó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rwy i nimfy- nawet 500 dn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sobniki dojrzałe- do 800 dn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35:11Z</dcterms:created>
  <dc:creator>Gałęziowski</dc:creator>
  <dc:description/>
  <dc:language>en-US</dc:language>
  <cp:lastModifiedBy>Gałęziowski</cp:lastModifiedBy>
  <dcterms:modified xsi:type="dcterms:W3CDTF">2008-05-18T14:03:57Z</dcterms:modified>
  <cp:revision>107</cp:revision>
  <dc:subject/>
  <dc:title>Slajd 1</dc:title>
</cp:coreProperties>
</file>