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FA99-6704-49EA-9DB1-28184163DF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F10E-3386-499C-B029-6200789A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20EB-B858-4EB8-8681-1B088BB6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6828-4A00-4DC8-8B47-F053D76B6A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C41DB-2764-42CA-8973-DD113E28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F1B23-F6AE-4468-AA31-53E82711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F8332-8DAF-4977-ABB2-8FABBEA2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B64CF-5B53-4D4D-BEAA-D899762A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34C3-8A72-49A0-A168-A12907F8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9ACB-9E81-4EB9-9D1C-B1CB1DAE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E0DCC-33FD-4513-A9B5-0B05E4C5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1AF0-DCE9-4976-9C6B-5F6EE672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677A4-1B0C-4DA2-85E8-15867E28F03A}" type="slidenum">
              <a:rPr b="0" lang="en-CA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</a:t>
            </a:r>
            <a:r>
              <a:rPr b="1" lang="en-CA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</a:t>
            </a:r>
            <a:r>
              <a:rPr b="1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ÓZG W CHOROB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Artur Klimaszewski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132000" y="549360"/>
            <a:ext cx="274320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y nieprawidłowych obrazów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badaniu SP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68360" y="1773360"/>
            <a:ext cx="4535640" cy="39830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43080" y="602136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Zniszczenia obserwowane w chorobie Alzheim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y nieprawidłowych obrazów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badaniu SP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771640" y="1727280"/>
            <a:ext cx="3384720" cy="3789360"/>
            <a:chOff x="2771640" y="1727280"/>
            <a:chExt cx="3384720" cy="378936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2771640" y="1727280"/>
              <a:ext cx="3384720" cy="37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771640" y="1727280"/>
              <a:ext cx="3384720" cy="37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002120" y="579600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AD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y nieprawidłowych obrazów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badaniu SP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11280" y="1695600"/>
            <a:ext cx="4397400" cy="3533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23960" y="544500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Zaawansowana borelio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eciętny SPECT nie znaczy zdrow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484280"/>
            <a:ext cx="8229600" cy="55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drowe mózgi w SPECT są widywane względnie rzadk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prawidłowości wykryte w SPECT najczęściej powodują problemy psychologiczne, neurologiczne, a czasami psychiatrycz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k. 30% ludzi ma widoczne w badaniu SPECT nieprawidłowości; ludzie mający uszkodzenia mózgu są prawie zawsze nieszczęśliwi, często nieefektywni w działaniach i mający poważne problemy interpersonalne z innymi ludźm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dejrzewa się, że większość rozwodów jest w istocie spowodowane uszkodzeniem mózgu jednego lub obojga małżonków, ludzie z uszkodzeniami podejmują wiele błędnych decyzj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18900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zynniki Uszkadzające Móz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1120" y="930240"/>
            <a:ext cx="82296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razy (nawet  te mał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Alkohol (każda ilość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hroniczny lub częsty st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dmiernie długa prac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 dużo kawy i napojów energetyzującyc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rażenie na rozpuszczalniki organicz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ruch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które leki (zwłaszcza przeciwbólow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rkotyki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ezsenność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dary mózg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Glutaminian (głównie u osób wrażliwych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rażenie na pyły, zwłaszcza drob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dciśnienie tętnicz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horoby naczyń krwionośnych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euroinfekcje (bakteryjne, wirusowe, pasożytnicz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waga: badanie SPECT jest względnie niespecyficzne tzn. zwykle nie różnicuje  przyczyn uszkodzeń; tylko czasami sugeruje ich istotę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stosowanie SPECT w Borelioz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80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niwersytet Columbia NJ obecnie bada</a:t>
            </a:r>
            <a:r>
              <a:rPr b="0" lang="en-CA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,</a:t>
            </a:r>
            <a:r>
              <a:rPr b="0" lang="pl-PL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ale brak ostatecznej publikacji i wnioskó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 uwagi na bardzo różnorodny obraz diagnostyka boreliozy w oparciu o sam SPECT prawdopodobnie nie będzie możliw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PECT może okazać się doskonałym narzędziem do monitorowania lecze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oblem: Wysoki koszt badania i konieczność wielokrotnego powtarzani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rzyści z badania SP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62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lokalizowanie nieprawidłowoś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ożliwość interwencj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-  specyficzne suplementy poprawiające biologię mózgu w miejscu uszkodz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 wpływające na czynność mózg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sunięcie szkodliwych czynnikó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otywacja do prowadzenia zdrowego stylu ży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terwencja: zmiana stylu życia</a:t>
            </a:r>
            <a:br>
              <a:rPr sz="4400"/>
            </a:br>
            <a:r>
              <a:rPr b="0" lang="pl-PL" sz="1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skazane dla każdego, kto ma jakiekolwiek uszkodzenia mózg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120" y="1619280"/>
            <a:ext cx="8229600" cy="53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nikanie substancji szkodliwych , w tym złej żywności oraz cuk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nikanie kawy, alkoholu, używek i narkotyków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uch i ćwiczen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obra</a:t>
            </a:r>
            <a:r>
              <a:rPr b="0" lang="en-CA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m</a:t>
            </a: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ltiwitamin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lej rybi (z uwagi na zawartość DHA) lub lepiej same ryby, ale te gatunki, które mają niską zawartość rtęc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alka z chronicznym strese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miana otoczenia na spokojniejsz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edytacj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amiętnik emocjonaln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itamina C w megadawkach (zapobiega tworzeniu się hormonów stresu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grupa wsparcia (formalna grupa wsparcia, przyjaciele, różnego typu organizacje wspólnotowe, może nawet wspierająca rodzina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terwencje specyficzne do uszkodzeń</a:t>
            </a:r>
            <a:br>
              <a:rPr sz="4000"/>
            </a:b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ymptomy pozwalają na lokalizację uszkodze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640" y="1684440"/>
            <a:ext cx="85424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 lub lek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wag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strożnie interpretować podane dalej objawy uszkodzeń, interpretacja częściowo zastępuje drogie badanie SPE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ieństwo danego uszkodzenia duże, jeżeli występuje połowa lub więcej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 wymienionych objawó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jaciel lub ktoś z rodziny powinien pomó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ocenie i diagnozie, aby nie zatracić obiektywizm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kory czołow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197000"/>
            <a:ext cx="82296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bjawy: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łopoty w utrzymaniu koncentracji, tendencje do rozproszenia się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dwlekanie wykonania</a:t>
            </a:r>
            <a:r>
              <a:rPr b="0" lang="en-CA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waż</a:t>
            </a: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ych zadań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dokładności w pra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cierpliwość, potrzeba natychmiastowej gratyfikacj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iągłe poczucie niepokoj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endencja do przerywania rozmówcom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mpulsywne decyzj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szukiwanie ekscytacj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endencja do nałogów (tytoń, komputer etc.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Fakty na temat mózg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28640"/>
            <a:ext cx="8229600" cy="54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wiera neurony, które służą do przekazywania informacji (część odbierająca, część przewodząca i część przekazując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- Mielinizacja przyspiesza pracę móz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mórki pomocnicze: astrocyty, komórki glejo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hemiczny skł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oda 8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łuszcze 12%  (ok 60% suchej masy)   D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nsystencja móz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elikatność tkanki nerwowe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kory czołowej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pecyficzne środki zaradc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341360"/>
            <a:ext cx="8229600" cy="65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Adderal, Strattera (leki niekoniecznie dostępne w Pols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estosteron, tyroksyna, estradiol, progesteron (jeżeli niskie poziom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ieta uboga w cukry (a nawet węglowodany), a  bogata w biał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nsultacja alergologicz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: ekstrakt z zielonej herbaty, imbir, SAMe, ginkgo biloba, kofeina (mała ilość), cy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197000"/>
            <a:ext cx="8229600" cy="52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tarczywe negatywne myś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iągłe martwienie si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endencje do natrętnego zachow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amiętanie krzyw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egatywna reakcja na brak porząd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łótliwoś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ochoty na jakiekolwiek zmia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postrzegania możliwych rozwiąza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</a:rPr>
              <a:t>Prawdopodobne uszkodzenie zakrętu obręcz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Prozac, Paxil, Zoloft, Effexor, Cymbal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ażna aktywność fizycz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 : L-tryptofan, 5 HTP, dziurawiec, GABA, inositol, szafran (np. francuski </a:t>
            </a:r>
            <a:r>
              <a:rPr b="0" lang="en-CA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atiereal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zakrętu obręczy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specyficzne środki zaradc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układu limbiczn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619280"/>
            <a:ext cx="82296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mutek, negatywiz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jakiejkolwiek satysfakcj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ud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energi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zapału do czegokolwie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czucie beznadziejności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czucie wi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łac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ska samooce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przyjació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3824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układu limbicznego</a:t>
            </a:r>
            <a:br>
              <a:rPr sz="2900"/>
            </a:br>
            <a:r>
              <a:rPr b="0" lang="pl-PL" sz="2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specyficzne środki zaradcze 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antydepresanty, Effexor, Cymbalta, sole litu, Neurontin (zwłaszcza jeżeli są bó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: GABA, mięta, witamina B6, mag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274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zwojów podstawn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268280"/>
            <a:ext cx="82296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erwowość i niepokó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an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óle napięciowe z mięś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Fataliz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nikanie konfliktów - na sił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dmierna motywacja (pracohol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pewność i brak wiary w sieb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Łatwość przestraszenia się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zwojów podstawnych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specyficzne środki zaradcz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przeciwpadaczkowe, Buspar, propranol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: GABA, B6, mięta, mag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płata skroni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125360"/>
            <a:ext cx="8229600" cy="72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opanowania, brak bezpieczników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robne irytacje prowadzą do eksplozj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stabilny, zmienny nastrój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terpretacja usłyszanych komentarzy - zawsze na ‘nie’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eja vu (poczucie: kiedyś już tak było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dmierna podejrzliwość wobec zamiarów innych  ludz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głe agresywne myśli, czasami wręcz mordercz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pominanie odpowiednich wyrazów w trakcie mówieni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óle głowy i brzucha bez wyraźnej przyczyn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12760"/>
            <a:ext cx="822960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płata skroniowego</a:t>
            </a:r>
            <a:br>
              <a:rPr sz="2900"/>
            </a:br>
            <a:r>
              <a:rPr b="0" lang="pl-PL" sz="2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specyficzne środki zaradcze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4440" indent="-511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leki przeciwpadaczkowe, Depakote, Lamic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1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1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14440"/>
                <a:tab algn="l" pos="961920"/>
                <a:tab algn="l" pos="1411200"/>
                <a:tab algn="l" pos="1860480"/>
                <a:tab algn="l" pos="2309760"/>
                <a:tab algn="l" pos="2759040"/>
                <a:tab algn="l" pos="3208320"/>
                <a:tab algn="l" pos="3657600"/>
                <a:tab algn="l" pos="4106880"/>
                <a:tab algn="l" pos="4556160"/>
                <a:tab algn="l" pos="5005440"/>
                <a:tab algn="l" pos="5454720"/>
                <a:tab algn="l" pos="5904000"/>
                <a:tab algn="l" pos="6353280"/>
                <a:tab algn="l" pos="6802560"/>
                <a:tab algn="l" pos="7251840"/>
                <a:tab algn="l" pos="7701120"/>
                <a:tab algn="l" pos="8150400"/>
                <a:tab algn="l" pos="8599320"/>
                <a:tab algn="l" pos="9048600"/>
                <a:tab algn="l" pos="949788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: GABA, mięta (Lemon balm), B6, magn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pamięc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120" y="1440000"/>
            <a:ext cx="822960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pominalstw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pominanie o spotkaniach i opłacaniu rachunków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pominanie o przyjmowaniu leków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pominanie niedawnych zdarzeń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łopoty w pamiętaniu im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łopoty z pamiętaniem materiału w szkole i pra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amiętanie czegoś jednego dnia, a drugiego dnia ni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pominanie co się chciało powiedzieć w trakcie mówieni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łopoty w rozumieniu instrukcji mających więcej niż dwa etap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idok na lewą stronę mózg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709720" y="1916280"/>
            <a:ext cx="3724560" cy="2523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52160" y="5732640"/>
            <a:ext cx="735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Widać płat czołowy, płat ciemieniowy, płat skroniowy, korę wzrokow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móżdżek i trochę pnia mózgu; na przekroju mózgu po lewej stronie widocz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układ limbi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171880" y="137160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pamięci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specyficzne środki zaradc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Nameda, Aricept, Exelon, Reminy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: witamina D3, witamina E (najlepiej naturalna),  olej rybi i ryba, kurkuma, kwas foliowy, Huperzin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móżdżk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zdarność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derzanie się z meblami, framugą drzw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czytelny charakter pism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organizacji i bałagan w miejscu prac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kładanie stosów papierów lub stosów rzeczy w mieszkani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dwrażliwość na dźwięk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dwrażliwość na dotyk lub szorstkie ubrani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oblemy w przyswojeniu nowej informacj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Gubienie się; gubienie tematu w trakcie rozmow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1200" indent="-5112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wolność myśleni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ki: nie 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uplementy:  witamina D3, witamina E (najlepiej naturalna),  olej rybi i ryba, kurkuma, kwas foliowy, Huperzin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awdopodobne uszkodzenie móżdżku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specyficzne środki zaradcz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terwenc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773360"/>
            <a:ext cx="822960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habilitacja i usprawni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ózg regeneruje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otywac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drowa di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habilitacj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ózg jako twór plastycz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habilitacja uszkodzeń ruchow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habilitacja uszkodzeń czuciow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habilitacja funkcji umysłow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amię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ozwiązywanie problemó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spieszanie pracy umysłow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prawa zrozumi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ternet jako sposób na ćwiczenia Mózgu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00200"/>
            <a:ext cx="8229600" cy="50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owe miejsca internetowe na których można poprawiać pracę mózgu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ingle.com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incurls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stnieją też całkiem dobre miejsca płat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 są znane dobre polskie strony oferujące podobne usłu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190600" y="1166760"/>
            <a:ext cx="4762800" cy="45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oblemy z Krążeniem Żylnym Mózgowy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55736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dkrycie Paolo’a Zamboni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strożność wobec nowej met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traty dla rynku farmaceutycznego produkującego leki na stwardnienie rozsi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tencjał w leczeniu chorób odkleszczow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yzy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sz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ostępność diagnostyki i lecz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ocedu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CSVI co jest skrótem z terminu angielskieg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hronic Cerebro-Spinal Venous Insu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polskim tłumaczeniu to: chroniczna mózgowo-rdzeniowa niewydolność ży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toczna nazwa  zabiegu  to liberation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o oznacza operację uwolni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użo dobrych informacji na stroni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iberation-treatment.com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(język angielski nieste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Hipotetyczna rola patologii krążenia żylnego w przebiegu chorób odkleszczowych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773360"/>
            <a:ext cx="82296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fekcja patogena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siedlenie naczyń żyl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miany zapalne w ścianach naczy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trudnienie odpływu żylnego z móz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asilenie infekcji w blokowanych naczyniach krwionośny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szkodzenie bariery krew-mózg i penetracja mikrobów do móz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bjawy ze strony układu nerwow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graniczone możliwości działania dla układu obronne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zablokowanych naczyni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515880"/>
            <a:ext cx="8229600" cy="64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łat czołowy: osąd, przewidywanie, planowanie, kontrola impuls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akręt obręczy: zmiana myśli (jak skrzynia biegów w samochodzi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ystem limbiczny: emocje, nastrój, przywiązani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woje podstawne: integracja myśli, uczuć, ruchu, ośrodek przyjemnośc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łat skroniowy: pamięć, stabilność nastroju, obróbka wrażeń słuchowy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łat ciemieniowy: procesy czuciowe, poczucie kierunku, również dążenie do cel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Móżdżek: koordynacja ruchu i myśli, osąd, szybkość myśleni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nterwencja w formie udrożnienia spływu żylnego mózg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alonizacja naczyń żylnych lub założenie stentó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prawa przepływów mózgow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psze działanie antybiotyków i leków p/wirusowy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psze działanie układu obronn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walczenie infek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niknięcie lub zmniejszenie objawó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iagnostyka niedrożności żylnego spływu z mózg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600200"/>
            <a:ext cx="822960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iagnostyka  kliniczna - niepewn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adanie dopplerowskie układu żylnego  (zwykle w pozycji leżącej i siedzącej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adanie rezonansem magnetyczny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flebografia - główne badanie, dające ostateczny obraz stanu żył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3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waga: wykonywanie badań diagnostycznych niedrożności układu żylnego wymaga doświadczenia; przeważająca większość ultrasonografistów i chirurgów naczyniowych nie posiada dostatecznych umiejętności; podkreśla się konieczność treningu w ośrodku we Włoszech pod nadzorem samego twórcy metody lub jego doświadczonego zespołu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środki w Pols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600200"/>
            <a:ext cx="82296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atowice:</a:t>
            </a:r>
            <a:r>
              <a:rPr b="1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Euromedic Poland 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l. Uniwersytecka 13</a:t>
            </a:r>
            <a:br>
              <a:rPr sz="2000"/>
            </a:br>
            <a:r>
              <a:rPr b="0" lang="en-CA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euromedicpoland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opplerowskie badanie przepływu żył szyjnych wewnętrznych (USG) wg protokołu Zamboniego - badanie obowiązk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adanie rezonansu magnetycznego naczyń szyi i śródpiersia wg protokołu Stanford  - badanie obowiązkowe, o ile pacjent nie zostanie wykluczony przez wcześniejsze badan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adanie okulistyczne - ocena pola widzenia i OCT (ocena włókien nerwu II, komórek zwojowych) - badanie obowiązkowe, o ile pacjent nie zostanie wykluczony przez wcześniejsze bada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środki w Polsce c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arszawa: </a:t>
            </a:r>
            <a:r>
              <a:rPr b="1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AMEDS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Al. Ujazdowskie 41, </a:t>
            </a:r>
            <a:r>
              <a:rPr b="0" lang="pl-PL" sz="2000" spc="-1" strike="noStrike">
                <a:solidFill>
                  <a:srgbClr val="eeece1"/>
                </a:solidFill>
                <a:latin typeface="Calibri"/>
                <a:ea typeface="Lucida Sans Unicode"/>
              </a:rPr>
              <a:t>ameds.p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      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iagnostyka 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CSVI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(USG Doppler, MRV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–wenografia z magnetycznym rezonansem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,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badanie neurologicz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Leczenie 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CSVI  –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tworzenie blokad żylnych balonem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Leczenie 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CSVI –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jeden stent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(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eno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grafia rentgenowska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,  2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niowy pobyt w szpitalu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,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ńcowe 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SG Doppl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CSVI TREATMENT –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wa stenty</a:t>
            </a:r>
            <a:br>
              <a:rPr sz="1400"/>
            </a:br>
            <a:br>
              <a:rPr sz="1400"/>
            </a:b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(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eno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grafia rentgenowska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,  2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niowy pobyt w szpitalu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,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końcowe </a:t>
            </a:r>
            <a:r>
              <a:rPr b="0" lang="en-CA" sz="1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SG Doppler)</a:t>
            </a:r>
            <a:br>
              <a:rPr sz="1400"/>
            </a:br>
            <a:br>
              <a:rPr sz="13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środki na świec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82296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łochy: 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niversità degli Studi di Ferrara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Corso della Giovecca, 203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;  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Ferrara,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elefon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: 0532 236304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- dostęp obecnie utrudniony - placówka badawcza koncentrująca się na badaniach naukowych a nie usługów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tanford University School of Medicine</a:t>
            </a:r>
            <a:br>
              <a:rPr sz="2000"/>
            </a:br>
            <a:r>
              <a:rPr b="0" lang="en-CA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300 Pasteur Dr.</a:t>
            </a:r>
            <a:br>
              <a:rPr sz="2000"/>
            </a:br>
            <a:r>
              <a:rPr b="0" lang="en-CA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tanford, CA 94305-5642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-  obecnie dostęp utrudniony z uwagi na kontrowersje stworzoną przez amerykańskie władze medycz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środek w Kanadzie – brak dostępu z powodu kontrowersji, tak  ja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US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Istnieją też ośrodki w Bułgarii oraz w Indiach o których mniej wiado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zulta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600200"/>
            <a:ext cx="82296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 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 90% pacjentów ze Stwardnieniem Rozsianym poprawa następuj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 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ciągu kilku tygodni, poprawa czasami zauważalna jest natychmiast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 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 niektórych chorych następuje całkowite wyzdrowienie, częściej  niektó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 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objawy pozostaj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tencjalne problem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rak  poprawy u około 10% chory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U chorych z poprawą możliwy nawrót choroby po kilku miesiącach lub latach, potrzeba powtórnego zabiegu występuje u około 40% chory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amoistne przemieszczenie stenta wymagające czasami  pilnej opera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ypowe ryzyko zabiegu chirurgicznego (krwotok, reakcja na lek lub znieczulenie, infekcj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A co w dziale „Borelioza”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341360"/>
            <a:ext cx="8229600" cy="61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 ma badań na ile niewydolność żylna jest problem u chorych z chorobami odkleszczowymi, których leczenie nie ma progresu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r </a:t>
            </a:r>
            <a:r>
              <a:rPr b="0" lang="en-CA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aolo Zamboni</a:t>
            </a:r>
            <a:r>
              <a:rPr b="0" lang="pl-PL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  jest świadomy tego, że problem niewydolności odpływu żylnego z mózgu może mieć znaczenie i w innych chorobach neurologicznych, w tym w chorobach odkleszczowych, niestety nie ma jak dotąd informacji kiedy problem zostanie zbadan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Nie wiadomo, czy  zajmie się wyjaśnianiem tej kwestii Ośrodek Badawczy Boreliozy i Chorób Odkleszczowych  istniejący przy Uniwersytecie Columbia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Nowym Jorku;  ten ośrodek jest również świadomy tego potencjalnego patomechanizmu choroby u części chorych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iagnoza niewydolności  żylnej sama w sobie, bez konieczności istnienia objawów takich jak w stwardnieniu rozsianym,  jest wskazaniem do interwencji chirurgicznej, czyli diagnoza MS nie jest konieczna do wykonania badań diagnostycznych i zabiegu uwolnien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5564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ożyjemy, zobaczy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404640"/>
            <a:ext cx="792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Calibri"/>
              </a:rPr>
              <a:t>Jaka jest przyszłość zabiegów na układz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Calibri"/>
              </a:rPr>
              <a:t>odbierającym krew z mózgu jeżel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Calibri"/>
              </a:rPr>
              <a:t>chodzi  o odkleszczówk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Diagnostyka Mózg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Zwykły rentg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E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Badanie płynu mózgowo-rdzeniow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Arteriograf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Tomografia komputerow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Rezonans magnetycz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PECT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(</a:t>
            </a:r>
            <a:r>
              <a:rPr b="0" lang="en-CA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ingle photon emission computed tomography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Scan SP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71640" y="1341360"/>
            <a:ext cx="2381040" cy="2667240"/>
            <a:chOff x="971640" y="1341360"/>
            <a:chExt cx="2381040" cy="266724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71640" y="1341360"/>
              <a:ext cx="2381040" cy="26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71640" y="1341360"/>
              <a:ext cx="2381040" cy="26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148360" y="1341360"/>
            <a:ext cx="265428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19160" y="4292640"/>
            <a:ext cx="52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Zdrowy mózg widziany od góry i z przo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08464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SPECT daje obraz 3D; analiza komputerowa pozwala na odtworzenie powierzchni mózgu jak tez niektórych struktur wewnętrz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Zdrowy mózg ma gładką, równą powierzchnię bez nadmiernych wgłębie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Wgłębienia oznaczają spadek perfuzji krwi przez tkankę, co w konsekwencji upośledza czynność danej części mózg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y nieprawidłowych obrazów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badaniu SP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859280" y="1773360"/>
            <a:ext cx="3562560" cy="3560760"/>
            <a:chOff x="4859280" y="1773360"/>
            <a:chExt cx="3562560" cy="35607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859280" y="1773360"/>
              <a:ext cx="3562560" cy="356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859280" y="1773360"/>
              <a:ext cx="3562560" cy="35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727600" y="573264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Mózg narkom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87280" y="2060640"/>
            <a:ext cx="2700360" cy="30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54120" y="566100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Zdrowy mózg poda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dla porówna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y nieprawidłowych obrazów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badaniu SP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3767040" cy="3844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660640" y="616572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Stan po urazie głow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947880" y="2492280"/>
            <a:ext cx="2612880" cy="2927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338120" y="602280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Zdrowy mózg podan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dla porówna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Przykłady nieprawidłowych obrazów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Calibri"/>
                <a:ea typeface="Lucida Sans Unicode"/>
              </a:rPr>
              <a:t>w badaniu SP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3398760" cy="371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27520" y="573264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Względnie niewielkie uszkodzen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lewego płata czołow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4:22:23Z</dcterms:created>
  <dc:creator>Adam</dc:creator>
  <dc:description/>
  <dc:language>en-US</dc:language>
  <cp:lastModifiedBy>Adam</cp:lastModifiedBy>
  <dcterms:modified xsi:type="dcterms:W3CDTF">2010-09-01T10:35:07Z</dcterms:modified>
  <cp:revision>9</cp:revision>
  <dc:subject/>
  <dc:title>Slide 1</dc:title>
</cp:coreProperties>
</file>