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4.jpeg" ContentType="image/jpeg"/>
  <Override PartName="/ppt/media/image5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21.png" ContentType="image/png"/>
  <Override PartName="/ppt/media/image16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562D6-7FF7-4BA6-8C61-53E6FC829C82}" type="slidenum"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CC789-2487-48CB-BF1B-E081D178D3CB}" type="slidenum"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utor: Dominik Rybcz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CHNB posiada prawo do wykorzystania tego plaka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6E57E-1A63-458C-898A-AF4CE4C9E85F}" type="slidenum"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braz pochodzi ze strony SANEPI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C02C9-3BBB-4EEB-A11E-3D8A5A527C38}" type="slidenum"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5A0F8-5318-4E42-A44E-382AF694FEE4}" type="slidenum"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9796A-E714-48FB-A6A0-0C3289FA6DF7}" type="slidenum"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C1F13-6B9D-4CF1-B787-191D15228A59}" type="slidenum"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utor: Dominik Rybcz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CHNB posiada prawo do wykorzystania tego plaka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6B75-212C-4C4F-B55B-3F16C3E6F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D288-92B6-4633-A204-E12385F3C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3D91-2810-4FE5-BCDF-CF7269679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B218-550B-46FF-850C-551239D1FB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47EE1-808B-458A-BEE7-EDE54DA96F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309C-E7F6-4DCE-B373-CE400DCB3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8ECF-EA84-4DA5-9B3A-E133A9BD6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ECFB-9994-4FF9-A94B-B90BBA507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C0D7-B702-47D1-BB4F-A43F0EA32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ED1D-F531-4695-BBC8-04F3694BC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6CA7-B30C-4A2B-9E63-DD8B7A073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B4E1-070B-49D4-840E-30B99179F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1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pl-PL" sz="5400" spc="-1" strike="noStrike">
                <a:solidFill>
                  <a:srgbClr val="800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214B3-8446-4E87-B879-83ACB5884EF0}" type="slidenum">
              <a:rPr b="1" lang="pl-PL" sz="54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borelioza.org/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06720" y="0"/>
            <a:ext cx="493056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9160" y="1238400"/>
            <a:ext cx="8905680" cy="4381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89080" y="144792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800080"/>
                </a:solidFill>
                <a:latin typeface="Arial"/>
              </a:rPr>
              <a:t>BB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89640" y="4800600"/>
            <a:ext cx="24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200" spc="-1" strike="noStrike">
                <a:solidFill>
                  <a:srgbClr val="800080"/>
                </a:solidFill>
                <a:latin typeface="Arial"/>
              </a:rPr>
              <a:t>% przypadków potwierdzonych</a:t>
            </a:r>
            <a:endParaRPr b="1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800600"/>
            <a:ext cx="221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200" spc="-1" strike="noStrike">
                <a:solidFill>
                  <a:srgbClr val="800080"/>
                </a:solidFill>
                <a:latin typeface="Arial"/>
              </a:rPr>
              <a:t>Ilość zachorowań na 100.000</a:t>
            </a:r>
            <a:endParaRPr b="1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304920" cy="274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06160" y="5807160"/>
            <a:ext cx="140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źródło: SANEPID</a:t>
            </a:r>
            <a:endParaRPr b="1" lang="en-US" sz="1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1680" y="142920"/>
            <a:ext cx="785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W Holandii,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w której zamieszkuje połowę mniej ludzi niż w Polsce,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co roku diagnozuje się 3-4 razy więcej zachorowań niż w Polsc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1680" y="2428920"/>
            <a:ext cx="8001000" cy="4214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14240" y="357120"/>
            <a:ext cx="7391520" cy="68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3960" algn="ctr"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457200" indent="-453960"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Jeśli choroba „nie występuje” na jakimś obszarze, to znaczy, że brak tam prawidłowej diagnostyki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457200" indent="-453960"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457200" indent="-453960"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Nie ma terenów bezpiecznych, wolnych od zarażonych kleszczy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457200" indent="-453960"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457200" indent="-453960" algn="ctr"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AŁY OBSZAR POLSKI TO TEREN ENDEMICZNY!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457200" indent="-453960"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457200" indent="-453960">
              <a:spcBef>
                <a:spcPts val="20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35240" y="164304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5400" spc="-1" strike="noStrike">
                <a:solidFill>
                  <a:srgbClr val="ffff00"/>
                </a:solidFill>
                <a:latin typeface="Arial"/>
              </a:rPr>
              <a:t>DIAGNOZA</a:t>
            </a:r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35720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rak całkowicie wiarygodnego testu laboratoryjnego, który pozwoliłby wykluczyć boreliozę, 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onitorować leczenie oraz potwierdzić wyleczeni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iagnoza boreliozy powinna być oparta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a objawach klinicznych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90720" y="8380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371600"/>
            <a:ext cx="789768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786200" y="741240"/>
            <a:ext cx="4122720" cy="340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642960"/>
            <a:ext cx="392904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Jeżeli wystąpi po ukąszeniu przez kleszcza daj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stuprocentową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pewność zarażenia boreliozą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esty laboratoryjne są zbędne!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14760"/>
            <a:ext cx="742968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Zwykle pojawia się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ciągu miesiąca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o ukąszeniu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czasem znacznie później.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Utrzymuje się przez kilka tygodni.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Typowy rumień w boreliozie: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 - ma średnice ponad 5 cm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 - ciemniejszą otoczkę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 - powoli blednące od środka wnętrze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 - czasami nieco wypukły pierścień otaczający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Część chorych z rumieniem nie pamięta ukąszenia kleszcz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43760" y="4500720"/>
            <a:ext cx="300024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Czasami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zamiast rumienia jest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ietypowa wysypka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lub zaczerwienieni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Rumień wędrujący </a:t>
            </a:r>
            <a:r>
              <a:rPr b="1" i="1" lang="pl-PL" sz="2800" spc="-1" strike="noStrike">
                <a:solidFill>
                  <a:srgbClr val="ff0000"/>
                </a:solidFill>
                <a:latin typeface="Arial"/>
              </a:rPr>
              <a:t>Erythrema migrans (EM)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0880" y="1197000"/>
            <a:ext cx="4025880" cy="4103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3280" y="1219320"/>
            <a:ext cx="4097520" cy="405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214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umień występuje czasem również u osób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tóre nie zauważyły ukąszenia przez kleszcz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00760" y="357120"/>
            <a:ext cx="43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pisywane jest wystąpienie EM 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 ukąszeniu owadów krwiopijnych (gzów, pcheł, pluskiew, wszy)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40" y="4500720"/>
            <a:ext cx="419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adania mikrobiologiczne wykazały, 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że parę % komarów 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zachodniej Polsce 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est nosicielami Bb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071960" y="3643200"/>
            <a:ext cx="5072040" cy="2932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57840" y="214200"/>
            <a:ext cx="4008240" cy="3845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5840" y="2500200"/>
            <a:ext cx="9072360" cy="40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UWAGA!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Rumień pojawia się tylko u 30-70% zarażonych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można być chorym, choć nie było rumienia!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U dzieci rumień pojawia się rzadziej niż u dorosłych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86280" y="214200"/>
            <a:ext cx="3000600" cy="3009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857920" y="3929040"/>
            <a:ext cx="2987640" cy="2928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214200" y="500040"/>
            <a:ext cx="5572080" cy="72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łoniak limfocytalny, 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zej limfocytoma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Sino-czerwony guzek, który może umiejscowić się na różnych częściach ciała, najczęściej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na płatku usznym, nosie,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brodawkach sutkowych, genitaliach.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Dotyczy głównie dzieci i powstaje od kilku tygodni  do kilku miesięcy od momentu ukąszenia.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Nie leczony utrzymuje się przez dłuższy czas, nawet kilka lat, i może sam ustąpić.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609480"/>
            <a:ext cx="792504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004800"/>
                </a:solidFill>
                <a:latin typeface="Bradley Hand ITC"/>
              </a:rPr>
              <a:t>Największy problem pacjentów z chroniczną boreliozą polega na tym, że są oni najpierw leczeni antybiotykami, po czym dowiadują się, że już są zdrowi  – nawet gdy mają objawy poważnych nawrotów choroby.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004800"/>
                </a:solidFill>
                <a:latin typeface="Bradley Hand ITC"/>
              </a:rPr>
              <a:t>W medycynie zaistniał trwały dogmat, że 28 dni dożylnych antybiotyków, bez kontynuacji antybiotykami doustnymi, leczy całkowicie boreliozę.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004800"/>
                </a:solidFill>
                <a:latin typeface="Bradley Hand ITC"/>
              </a:rPr>
              <a:t>Tymczasem kluczem do leczenia przewlekłej boreliozy winna być długość leczenia, a nie forma.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004800"/>
                </a:solidFill>
                <a:latin typeface="Bradley Hand ITC"/>
              </a:rPr>
              <a:t>Nie chciałbym być w skórze lekarza, który nie wyleczy boreliozy aż do ustąpienia objawów nie wiedząc, że nawroty mogą być znacznie bardziej niebezpieczne od długiego leczenia.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004800"/>
                </a:solidFill>
                <a:latin typeface="Bradley Hand ITC"/>
              </a:rPr>
              <a:t>                                                </a:t>
            </a:r>
            <a:r>
              <a:rPr b="1" i="1" lang="pl-PL" sz="2400" spc="-1" strike="noStrike">
                <a:solidFill>
                  <a:srgbClr val="004800"/>
                </a:solidFill>
                <a:latin typeface="Bradley Hand ITC"/>
              </a:rPr>
              <a:t>Thomas M. Grier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214280"/>
            <a:ext cx="5214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Test ELISA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55-70% wyników fałszywych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8577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ykluczenie boreliozy na podstawie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jemnego wyniku testu Elisa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est powodem wielu ludzkich nieszczęść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1680" y="285840"/>
            <a:ext cx="45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Test przesiewowy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2593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29289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Pomimo, że diagnoza boreliozy powinna bazować na objawach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w praktyce nie jest stawiana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w przypadku ujemnego wyniku testu Elis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4200" y="642960"/>
            <a:ext cx="892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Błędem jest tez fakt, ze do rozpoznania boreliozy i jej leczenia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konieczny jest dodatni wynik testu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zwłaszcza w kontekście tego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że taki sam wynik testu po leczeniu + zgłaszane objawy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nie są wskazaniem do kontynuowania antybiotykoterapii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5840" y="3000240"/>
            <a:ext cx="8501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przecza się przewlekłej boreliozie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wierdząc ze objawy późne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 zastosowanej standardowej antybiotykoterapii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o „post Lyme syndrom”, a nie kontynuacja choroby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eczy temu obserwacja osób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tóre zaczynają się leczyć po wielu latach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 odczuwają poprawę stanu zdrowi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71800"/>
            <a:ext cx="90010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W okresie późnym brak potwierdzenia laboratoryjnego choroby,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pomimo jej aktywności, 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dotyczy ok. 15% osób chorych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2514600" cy="1677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428760"/>
            <a:ext cx="58579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Połowa chorych jest seronegatywn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Seronegatywność dotyczy zwykle bardziej chorych pacjentów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9400" y="3995640"/>
            <a:ext cx="671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oreliozę można wykluczyć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 podstawie braku odpowiedzi na antybiotykoterapię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przypadku diagnozy klinicznej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 podjęcia próbnej antybiotykoterapii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równo wystąpienie reakcji Herxheimera (herx)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jak i poprawa stanowią potwierdzenie diagnozy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41200"/>
            <a:ext cx="9144000" cy="72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Nieleczona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lub zbyt słabo leczona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wczesna borelioza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przechodzi w przewlekłą postać chorob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Leczenie standardow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est najczęściej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zbyt słab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– za krótkie i zbyt niską dawką pojedynczego antybiotyku –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 prowadzi do przejścia choroby w fazę rozsianą,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 następnie przewlekłą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 przypadku wcześniejszego leczenia standardowego – pacjent jest informowany przez lekarza, że jest już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wyleczony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 a objawy które wciąż występują spowodowane są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tzw. zespołem poboreliozowym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 podłożu autoimmunologicznym, który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de facto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est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kontynuacją chorob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285920"/>
            <a:ext cx="5214960" cy="62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Objawy ogólne: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ęczenie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słabienie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ła tolerancja alkoholu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blemy ze snem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iany cyklu wypróżnień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óle gardła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óle jąder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iany masy ciała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ypadanie włosów 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trata libido lub sprawności seksualnej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silona choroba lokomocyjna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reszcze, fale gorąca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bniżona/podwyższona temperatura ciał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ykliczność objawów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3360" y="0"/>
            <a:ext cx="868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Arial"/>
              </a:rPr>
              <a:t>OBJAWY późnych postaci BORELIOZY</a:t>
            </a:r>
            <a:br>
              <a:rPr sz="3200"/>
            </a:b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3680" y="642960"/>
            <a:ext cx="400032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Narząd ruchu: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óle stawów, mięśni, kości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niki mięśniowe (obręcz barkowa),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rzeszczenie szyi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ztywność  karku, całego kręgosłupa, stawów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14960" y="3449520"/>
            <a:ext cx="3392640" cy="2784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571920" y="1357200"/>
            <a:ext cx="1522440" cy="1571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2920" y="0"/>
            <a:ext cx="4929120" cy="78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Układ nerwowy: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drętwienia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rażenia nerwów, w tym nerwu twarzowego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bóle i zawroty głowy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oblemy z pamięcią, koncentracją uwagi,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apady padaczkowe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ataki paniki,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agresja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trata czucia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burzenia orientacji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oblemy z wymową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pominanie słów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tumanienie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any depresyjne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mienność emocjonalna,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adwrażliwość na światło, dźwięki, zapachy, chemikalia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erwobóle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Objawy skórne: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sypki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niki skóry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7840" y="0"/>
            <a:ext cx="4014720" cy="70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Układ krążenia: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achykardia,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rytmia,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koki ciśnienia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loki serca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ardiomiopatia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zmery w sercu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blemy zastawkow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Narząd wzroku: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ęty, kłaczki w polu widzenia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światłowstręt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palenie spojówki, siatkówki, naczyniówki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wójne i nieostre widzenie,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trata wzroku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71840" y="1857240"/>
            <a:ext cx="2120760" cy="2372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42960"/>
            <a:ext cx="91440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Charakterystyczne jest występowanie objawów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ze strony różnych układów organizmu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związku z tym podział boreliozy na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odmianę stawową, neuroboreliozę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boreliozę serca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ie ma uzasadnienia, bo objawy są zmienne w czasi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W przewlekłej boreliozie,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przy silnym układzie immunologicznym,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przez wiele lat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objawy mogą być słabonasilone i zmienne.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Po załamaniu układu odpornościowego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(np. po dużym stresie lub na starość)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objawy stają się silne i stał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200" y="64296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SPÓŁINFEKCJE  ODKLESZCZOWE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200" y="2428920"/>
            <a:ext cx="97506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Inne, poza Bb, patogeny przenoszone przez kleszcze: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ffff00"/>
                </a:solidFill>
                <a:latin typeface="Arial"/>
              </a:rPr>
              <a:t>Babesia,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ffff00"/>
                </a:solidFill>
                <a:latin typeface="Arial"/>
              </a:rPr>
              <a:t>Bartonella,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ffff00"/>
                </a:solidFill>
                <a:latin typeface="Arial"/>
              </a:rPr>
              <a:t>Erlichia,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ffff00"/>
                </a:solidFill>
                <a:latin typeface="Arial"/>
              </a:rPr>
              <a:t>Mycoplasma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i prawdopodobnie wiele innych, również niepoznanych przez naukę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Babeszioza – zwana „malarią północy”,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wywołana przez pierwotniaka z rodzaju BABESIA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071720"/>
            <a:ext cx="410976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bóle głowy („głowa w imadle”)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oty nocn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gorączk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suchy kaszel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duszność, air hunger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łatwość występowania siniaków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szum w uszach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uczucie chłodu, dreszcz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zaczerwienienie skóry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1071720"/>
            <a:ext cx="4495680" cy="41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żywe lub pełne przemocy sny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dysfagia (trudności w przełykaniu)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objawy psychiczn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oważne choroby neurologiczn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nadmierne pragnieni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zmęczeni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reumatoidalne zapalenie stawów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nudności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złe samopoczuci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niedokrwistość, małopłytkowość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214960"/>
            <a:ext cx="914400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kłada się, że pacjenci z boreliozą i cechami stwardnienia rozsianego (SM), stwardnienia zanikowego bocznego (ALS), chorobą Parkinsona (PD), ciężką chroniczną depresją – cierpią na babesziozę, aż nie udowodni się inaczej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ff0000"/>
                </a:solidFill>
                <a:latin typeface="Arial"/>
              </a:rPr>
              <a:t>W 2008 roku polskie laboratoria zdiagnozowały około 100 przypadków babesziozy</a:t>
            </a:r>
            <a:endParaRPr b="1" lang="en-US" sz="1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BARTONELLOZA = CHOROBA BAKTERYJNA, WYWOŁANA PRZEZ  BLO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680" y="1000080"/>
            <a:ext cx="3124080" cy="49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nagłe zachorowanie po ugryzieniu kleszcza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gorączk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otępieni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bóle głowy (kłujące)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fotofobi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tachykardi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blemy jelitow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ból podeszw stóp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niepokój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zapalenie wsierdzi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retinopati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neuropatia obwodow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3240" y="1000080"/>
            <a:ext cx="5000760" cy="39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nagły nawrót objawów po odstawieniu antybiotyków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ysypki, w tym wysypka w postaci pręg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opuchnięte stawy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owiększone węzły chłonn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blemy psychiatryczn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ból VII – X żebr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nagłe zmiany nastroju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brak reakcji na poprzednio stosowane antybiotyki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86160" y="4975200"/>
            <a:ext cx="2214720" cy="1882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16160" y="2286000"/>
            <a:ext cx="60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5400" spc="-1" strike="noStrike">
                <a:solidFill>
                  <a:srgbClr val="ffff00"/>
                </a:solidFill>
                <a:latin typeface="Arial"/>
              </a:rPr>
              <a:t>KONTROWERSJE</a:t>
            </a:r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EHRLICHIOZA – CHOROBA WYWOŁANA PRZEZ BAKTERIE Z RODZAJU ERLICHIA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0040" y="1785960"/>
            <a:ext cx="835812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zmęczeni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złe samopoczuci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leukopeni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ból ścięgie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bóle głowy (łagodne)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gorączki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bóle brzuch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odniesione wyniki testów funkcjonowania wątroby, wskazujące na zapalenie wątrob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MYKOPLAZMOZA – WYWOŁANA PRZEZ WEWNĄTRZKOMÓRKOWE BAKTERIE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Z RODZAJU MYCOPLASM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85920" y="1500120"/>
            <a:ext cx="76438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zmęczeni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gorączka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bezsenność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bóle głowy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blemy jelitow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napadowy katar, łzawienie oczu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kaszel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blemy psychiatryczne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opuchlizna i ból stawów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brak reakcji na wcześniej stosowane antybiotyki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643040"/>
            <a:ext cx="9144000" cy="22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Niezdiagnozowane i nieleczone współinfekcje uniemożliwiają wyleczenie BORELIOZY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857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Infekcje odkleszczowe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 reguły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są infekcjami złożonymi, wielopatogenowymi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7862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546422"/>
                </a:solidFill>
                <a:latin typeface="Arial"/>
              </a:rPr>
              <a:t>Główny nurt medycyny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546422"/>
                </a:solidFill>
                <a:latin typeface="Arial"/>
              </a:rPr>
              <a:t>zaprzecza istnieniu współinfekcji,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546422"/>
                </a:solidFill>
                <a:latin typeface="Arial"/>
              </a:rPr>
              <a:t>w związku z czym nie są one diagnozowane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546422"/>
                </a:solidFill>
                <a:latin typeface="Arial"/>
              </a:rPr>
              <a:t>i leczon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3571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ategorie leczenia wg J. Burrascano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ILADS)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5c00"/>
                </a:solidFill>
                <a:latin typeface="Arial"/>
              </a:rPr>
              <a:t>UKĄSZENIE KLESZCZA  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bez objawów choroby z Lyme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Leczenie w oparciu o typ kleszcza, czy pochodził z obszaru 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endemii, jak został usunięty i czas przebywania w skórze 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Należy pamiętać o możliwości współinfekcji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pl-PL" sz="1800" spc="-1" strike="noStrike" u="sng">
                <a:solidFill>
                  <a:srgbClr val="ff0000"/>
                </a:solidFill>
                <a:uFillTx/>
                <a:latin typeface="Arial"/>
              </a:rPr>
              <a:t>Dorośli</a:t>
            </a:r>
            <a:r>
              <a:rPr b="1" lang="pl-PL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- terapia doustna 400 mg doksycyliny przez 28 dni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pl-PL" sz="1800" spc="-1" strike="noStrike" u="sng">
                <a:solidFill>
                  <a:srgbClr val="ff0000"/>
                </a:solidFill>
                <a:uFillTx/>
                <a:latin typeface="Arial"/>
              </a:rPr>
              <a:t>Ciąża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 - Amoksycylina 1000 mg co 6 h przez 6 tygodni. Badanie w kierunku babesji, bartonelli i ehrlichii. Alternatywnie - cefuroksym (Zinnat) 1000 mg co 12 h przez 6 tygodni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lang="pl-PL" sz="1800" spc="-1" strike="noStrike" u="sng">
                <a:solidFill>
                  <a:srgbClr val="ff0000"/>
                </a:solidFill>
                <a:uFillTx/>
                <a:latin typeface="Arial"/>
              </a:rPr>
              <a:t>Małe</a:t>
            </a:r>
            <a:r>
              <a:rPr b="1" lang="pl-PL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pl-PL" sz="1800" spc="-1" strike="noStrike" u="sng">
                <a:solidFill>
                  <a:srgbClr val="ff0000"/>
                </a:solidFill>
                <a:uFillTx/>
                <a:latin typeface="Arial"/>
              </a:rPr>
              <a:t>dzieci</a:t>
            </a:r>
            <a:r>
              <a:rPr b="1" lang="pl-PL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- doustna terapia przez 28 dni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387026"/>
                </a:solidFill>
                <a:latin typeface="Arial"/>
              </a:rPr>
              <a:t>CHOROBA WCZESNA, ZLOKALIZOWANA 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- pojedynczy rumień wędrujący, 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bez objawów ogólnoustrojowych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 u="sng">
                <a:solidFill>
                  <a:srgbClr val="ff0000"/>
                </a:solidFill>
                <a:uFillTx/>
                <a:latin typeface="Arial"/>
              </a:rPr>
              <a:t>Dorośli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 - doustna terapia - minimum leczenia 6 tygodni 400-600 mg doksycykliny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pl-PL" sz="1800" spc="-1" strike="noStrike" u="sng">
                <a:solidFill>
                  <a:srgbClr val="ff0000"/>
                </a:solidFill>
                <a:uFillTx/>
                <a:latin typeface="Arial"/>
              </a:rPr>
              <a:t>Ciąża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 - 1 i 2 trymestr - dożylnie 30 dni, potem doustnie 6 tygodni.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3 trymestr - doustna terapia przez ponad 6 tygodni jak powyżej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W czasie całej ciąży - badanie w kierunku Babesji i Ehrlichii.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lang="pl-PL" sz="1800" spc="-1" strike="noStrike" u="sng">
                <a:solidFill>
                  <a:srgbClr val="ff0000"/>
                </a:solidFill>
                <a:uFillTx/>
                <a:latin typeface="Arial"/>
              </a:rPr>
              <a:t>Dzieci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 - doustna terapia przez ponad 6 tygodni.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78640" y="0"/>
            <a:ext cx="1665360" cy="2357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7434360" y="242892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800080"/>
                </a:solidFill>
                <a:latin typeface="Arial"/>
              </a:rPr>
              <a:t>J. Burrascano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1736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46422"/>
                </a:solidFill>
                <a:latin typeface="Arial"/>
              </a:rPr>
              <a:t>CHOROBA ROZSIANA, WCZESNA </a:t>
            </a:r>
            <a:r>
              <a:rPr b="1" lang="pl-PL" sz="2000" spc="-1" strike="noStrike">
                <a:solidFill>
                  <a:srgbClr val="800080"/>
                </a:solidFill>
                <a:latin typeface="Arial"/>
              </a:rPr>
              <a:t>-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umiarkowane objawy obecne krócej niż rok, bez powikłań spowodowanych zaburzeniami immunologicznym oraz bez uprzedniego leczenia sterydami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Dorośli</a:t>
            </a:r>
            <a:r>
              <a:rPr b="1" lang="pl-PL" sz="2000" spc="-1" strike="noStrike">
                <a:solidFill>
                  <a:srgbClr val="800080"/>
                </a:solidFill>
                <a:latin typeface="Arial"/>
              </a:rPr>
              <a:t> -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terapia doustna do ustąpienia objawów + 1-2 miesiące (zwykle 4 do 6 miesięcy)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800080"/>
                </a:solidFill>
                <a:latin typeface="Arial"/>
              </a:rPr>
              <a:t>2.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Ciąża</a:t>
            </a:r>
            <a:r>
              <a:rPr b="1" lang="pl-PL" sz="2000" spc="-1" strike="noStrike">
                <a:solidFill>
                  <a:srgbClr val="800080"/>
                </a:solidFill>
                <a:latin typeface="Arial"/>
              </a:rPr>
              <a:t> -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jak w chorobie zlokalizowanej, ale należy leczyć przez całą ciążę.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800080"/>
                </a:solidFill>
                <a:latin typeface="Arial"/>
              </a:rPr>
              <a:t>3.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Dzieci</a:t>
            </a:r>
            <a:r>
              <a:rPr b="1" lang="pl-PL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- doustna terapia której czas trwania opiera się o odpowiedź kliniczną.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ALTERNATYWA POZAJELITOWA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dla bardziej chorych pacjentów i dla tych, którzy nie tolerują doustnych antybiotyków albo nie mają po nich odpowiedzi: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800080"/>
                </a:solidFill>
                <a:latin typeface="Arial"/>
              </a:rPr>
              <a:t>1.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Dorośli i dzieci </a:t>
            </a:r>
            <a:r>
              <a:rPr b="1" lang="pl-PL" sz="2000" spc="-1" strike="noStrike">
                <a:solidFill>
                  <a:srgbClr val="800080"/>
                </a:solidFill>
                <a:latin typeface="Arial"/>
              </a:rPr>
              <a:t>-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terapia dożylna do czasu wyraźnej poprawy, co najmniej 6 tygodni. Następnie terapia doustna albo domięśniowo debecylina do czasu, aż nie będzie objawów aktywnej choroby przez 6 - 8 tygodni. Terapia dożylna może być powtórzona, o ile terapia doustna, albo domięśniowa zawiedzie.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800080"/>
                </a:solidFill>
                <a:latin typeface="Arial"/>
              </a:rPr>
              <a:t>2. </a:t>
            </a: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Ciąża</a:t>
            </a:r>
            <a:r>
              <a:rPr b="1" lang="pl-PL" sz="2000" spc="-1" strike="noStrike">
                <a:solidFill>
                  <a:srgbClr val="800080"/>
                </a:solidFill>
                <a:latin typeface="Arial"/>
              </a:rPr>
              <a:t> -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dożylne leczenie a potem doustne - tak jak powyżej.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28760" y="285840"/>
            <a:ext cx="8215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46422"/>
                </a:solidFill>
                <a:latin typeface="Arial"/>
              </a:rPr>
              <a:t>CHOROBA PRZEWLEKŁA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- obecna dłużej niż 1 rok, bardziej chorzy pacjenci i uprzednio leczeni sterydami albo z zaburzoną innymi przyczynami immunologią: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Dorośli i ciąża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- rozszerzona terapia dożylna (14 albo więcej tygodni), potem doustnie albo domięśniowo do zaniku wszystkich objawów chorobowych  + 6-8 tygodni.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Terapia złożona z przynajmniej 2 rożnych antybiotyków prawie zawsze jest konieczna.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Dzieci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 - dożylna terapia przez przynajmniej 6 tygodni, następnie terapia doustna albo domięśniowa jak powyżej. Zwykle jest potrzebna terapia złożona.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500880" y="4643280"/>
            <a:ext cx="2643120" cy="2214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428760" y="5000760"/>
            <a:ext cx="60004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46422"/>
                </a:solidFill>
                <a:latin typeface="Arial"/>
              </a:rPr>
              <a:t>Konieczne suplementy wzmacniające układ odpornościowy i wątrobę oraz dieta przecigrzybicza i wysokiej jakości probiotyki.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46422"/>
                </a:solidFill>
                <a:latin typeface="Arial"/>
              </a:rPr>
              <a:t>Wskazana aktywność fizyczna i/lub rehabilitacja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46422"/>
                </a:solidFill>
                <a:latin typeface="Arial"/>
              </a:rPr>
              <a:t>Badania kontrolne co miesiąc: morfologia krwi, próby wątrobowe, amylaza, kreatynina, badanie ogólne moczu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46422"/>
                </a:solidFill>
                <a:latin typeface="Arial"/>
              </a:rPr>
              <a:t>Co 3 miesiace: USG jamy brzusznej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Z CZEGO WYNIKAJĄ TRUDNOŚCI W LECZENIU?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1071720"/>
            <a:ext cx="822960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rak testu umożliwiającego monitoring leczenia;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Koinfekcje odkleszczow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- erlichia, babesja, bartonella, mykoplazmy i inne, co znacznie utrudnia leczenie;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limorfizm bakterii, przebywanie bakterii poza barierą krew-mózg i w miejscach trudno dostępnych dla antybiotyków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akcja Herxheimer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ożliwość uszkodzenia wątrob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eukopeni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agrożenie grzybicą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zrozumienie ze strony służby zdrowia, często również rodzin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ysokie koszt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85840" y="1071720"/>
            <a:ext cx="8858160" cy="44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Często jest mylnie diagnozowana jako: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erwic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wardnienie rozsiane (SM)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wardnienie zanikowe boczne (ALS lub SLA)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espół przewlekłego zmęczeni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adaczk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epresj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umatyczne zapalenie stawów i choroby tkanki łącznej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horoby z autoagresji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horoba Alzheimer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horoba Parkinson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fibromialgia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85920" y="214200"/>
            <a:ext cx="61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Arial"/>
              </a:rPr>
              <a:t>Borelioza – wielki imitator</a:t>
            </a: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47149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Obowiązujący standard diagnostyki i leczenia boreliozy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party na wytycznych europejskich,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tóre jako podstawę mają wytyczne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 USA opracowane przez IDS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357720"/>
            <a:ext cx="9144000" cy="37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546422"/>
                </a:solidFill>
                <a:latin typeface="Arial"/>
              </a:rPr>
              <a:t>W USA w maju 2008 wytyczne te zostały zakwestionowane, a ich twórcom zarzucono działanie na szkodę osób chorych na boreliozę i inne choroby odkleszczowe oraz korupcyjne działanie na  korzyść firm ubezpieczeniowych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46422"/>
                </a:solidFill>
                <a:latin typeface="Arial"/>
              </a:rPr>
              <a:t>Od lipca 2009 w stanach wschodniego wybrzeża USA zostało zalegalizowane długoterminowe leczenie chorób odkleszczowych, a firmy ubezpieczeniowe są zobligowane do refundacji kosztów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46422"/>
                </a:solidFill>
                <a:latin typeface="Arial"/>
              </a:rPr>
              <a:t>Obecnie trwają wspólne prace IDSA i ILADS dla wypracowania standardów leczenia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714920" y="214200"/>
            <a:ext cx="4240080" cy="2857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21932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Chorzy powinni wiedzieć 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o istniejących  w medycynie kontrowersjach na temat boreliozy 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i zgodnie z prawami pacjenta 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wybierać sposób leczenia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85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nfectious Disease Society of America (IDSA)</a:t>
            </a: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nternational </a:t>
            </a: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Lyme and Associated Diseases Society (ILADS)</a:t>
            </a: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00240" y="3714840"/>
            <a:ext cx="2880000" cy="2743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09480" y="3740040"/>
            <a:ext cx="510552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Uzyskało status 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Organizacji Pożytku Publicznego 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(możliwość pozyskiwania 1% podatku)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429000" y="144792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STOWARZYSZENIE CHORYCH NA BORELIOZĘ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095880" y="3809880"/>
            <a:ext cx="2511720" cy="2457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457200"/>
            <a:ext cx="8686800" cy="77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Arial"/>
              </a:rPr>
              <a:t>Kontakt ze Stowarzyszeniem:</a:t>
            </a: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e-mail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2800" spc="-1" strike="noStrike">
                <a:solidFill>
                  <a:srgbClr val="002060"/>
                </a:solidFill>
                <a:latin typeface="Arial"/>
              </a:rPr>
              <a:t>stowarzyszenie.borelioza@gmail.com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lub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1" lang="pl-PL" sz="2800" spc="-1" strike="noStrike">
                <a:solidFill>
                  <a:srgbClr val="002060"/>
                </a:solidFill>
                <a:latin typeface="Arial"/>
              </a:rPr>
              <a:t>lymepoland@gmail.com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Tel. kom.: </a:t>
            </a:r>
            <a:r>
              <a:rPr b="1" lang="pl-PL" sz="2800" spc="-1" strike="noStrike">
                <a:solidFill>
                  <a:srgbClr val="004800"/>
                </a:solidFill>
                <a:latin typeface="Arial"/>
              </a:rPr>
              <a:t>692 890 751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Zapisz się - ta organizacja reprezentuje także i Ciebi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borelioza.org</a:t>
            </a: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4800"/>
                </a:solidFill>
                <a:latin typeface="Arial"/>
              </a:rPr>
              <a:t>Punkt informacyjny we Wrocławiu: wroclaw@borelioza.org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85920" y="0"/>
            <a:ext cx="614376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28800"/>
            <a:ext cx="5786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 głównym nurcie medycyn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bowiązuje pogląd,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że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borelioza jest chorobą rzadką,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łatwą do zdiagnozowania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i równie łatwą do wyleczenia miesięczną monoterapią antybiotykową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786200"/>
            <a:ext cx="55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Żadna z tych tez nie jest prawdziwa!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15000" y="320760"/>
            <a:ext cx="3249720" cy="6323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124080" y="60948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STOWARZYSZENIE CHORYCH NA BORELIOZĘ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133720"/>
            <a:ext cx="8534520" cy="49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ziała na rzecz chorych na boreliozę (zwłaszcza w stadium późnym) i ich rodzin;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dejmuje działania w celu zwrócenia uwagi decydentów oraz środowisk medycznych, na problemy z diagnostyką i leczeniem tej choroby;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Śledzi najnowsze postępy w profilaktyce, diagnostyce           i leczeniu boreliozy i stara się informować o nich opinię publiczną;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ara się budować w społeczeństwie świadomość zagrożenia, wynikającego z chorób przenoszonych przez kleszcze, w tym przede wszystkim boreliozy;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est Stowarzyszeniem ogólnopolskim, zrzeszającym chorych i członków ich rodzin z terenu całej Polski.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ostało wpisane do rejestru na początku 2007 roku;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14280" y="1571760"/>
            <a:ext cx="701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5400" spc="-1" strike="noStrike">
                <a:solidFill>
                  <a:srgbClr val="ffff00"/>
                </a:solidFill>
                <a:latin typeface="Arial"/>
              </a:rPr>
              <a:t>SKALA  PROBLEMU A  STATYSTYKI      </a:t>
            </a:r>
            <a:endParaRPr b="1" lang="en-US" sz="5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5400" spc="-1" strike="noStrike">
                <a:solidFill>
                  <a:srgbClr val="ffff00"/>
                </a:solidFill>
                <a:latin typeface="Arial"/>
              </a:rPr>
              <a:t>W POLSCE</a:t>
            </a:r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364240" cy="5786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4200" y="0"/>
            <a:ext cx="85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Zachorowania na boreliozę zgłoszone w latach 1996-2009 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(dane PZH, Warszawa)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85840" y="785880"/>
            <a:ext cx="857232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achorowalność w 2004    10     osób/100 000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800080"/>
                </a:solidFill>
                <a:latin typeface="Arial"/>
              </a:rPr>
              <a:t>            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2007     20,3 osób/100 000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(dane mogą być zaniżone nawet 10-krotnie)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5400" spc="-1" strike="noStrike">
                <a:solidFill>
                  <a:srgbClr val="ffff00"/>
                </a:solidFill>
                <a:latin typeface="Arial"/>
              </a:rPr>
              <a:t>tymczasem za naszą południową granicą...</a:t>
            </a:r>
            <a:endParaRPr b="1" lang="en-US" sz="5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8:21:05Z</dcterms:created>
  <dc:creator>User</dc:creator>
  <dc:description/>
  <dc:language>en-US</dc:language>
  <cp:lastModifiedBy>PC</cp:lastModifiedBy>
  <dcterms:modified xsi:type="dcterms:W3CDTF">2010-04-02T09:25:03Z</dcterms:modified>
  <cp:revision>273</cp:revision>
  <dc:subject/>
  <dc:title>Prezentacja programu PowerPoint</dc:title>
</cp:coreProperties>
</file>