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07CF6-9163-48B4-8866-D0BB8B570C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03C6-79B2-4FBC-A82A-55EBD3F8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558F8-E48E-4676-9D72-1973481F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5D8E4-4278-45F8-9A20-3EA93838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803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C807E-C9EF-403A-9BCC-41B81906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A0CD2-E8F8-4165-A698-22E53545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A1307-5B7A-4982-95AE-5F63145E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F88DD-ECFC-4DCE-AC26-7234ABB2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3A386-DFDA-403B-82D4-28B6C46C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450CC-2DF5-4151-8548-CAA6B7FF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436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436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09E05-4734-4D3E-AA0C-5E453D36F8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05B4B-3731-47E8-87B7-EA45FA40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436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436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222C-0ED4-4296-8A11-03CAADBE4E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CB4CE-6580-4BC5-BCEE-3B590B1D81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E14D9-B3E7-4EB4-9F19-58033649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02A33-86E2-4A8F-B5E5-8C8A19AC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DFEFE-E7F0-4490-A659-18429866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779BC-5A54-4D1F-8D03-47CFD935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803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EE139-CD8D-4494-9415-53B2746D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E9D4B-28AB-460D-B835-04DB681F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F31BD-2163-46E7-A984-B5ADD8F0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8B80B-5415-4179-AA08-419E340C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37CFA-EC0F-4FC1-BE46-D372BE00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4F211-4EAE-4F13-A32C-6B28E665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E65C7-9EFF-4ED8-AC32-B9056913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436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436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F2999-E813-43E5-B0DB-5BC072EA5C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E75F-E5D3-4FF4-8E35-BDCE28352B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A6E9-9EED-49E5-B954-4FD79444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E0F3-C59F-4958-A80B-AFF35575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92AD-8CE5-422D-B6C6-7CA903D1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0D84-EE5C-4C3A-9976-C7F24B45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FD781-B72A-48EE-974A-79328DB4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803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3498-DAB5-4B33-92E7-039EE553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CC45-EDCD-41D8-9C25-298F26DA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D4A0-15E6-4846-9D95-2880C025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E25F-F007-4CB2-93A0-DBAE9AFD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3E21-EAF3-4D1E-8406-7EE8140C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9ADE-CAAF-4906-BCCD-924D2199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436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436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0FD7-154D-4556-BB4F-34970B36F4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5280C-C063-44DF-8960-B8CE1B2032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2BB38-45DA-413D-A3C9-01CFD55A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0355F-26CD-4609-848D-6B165872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ACDEA-BF21-414C-9819-37E74129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E3312-5A9B-4275-80BC-CCA3CCE8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00825-41DA-436F-9B86-2007A003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803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5E42D-DE8E-4CA6-B869-5E7CFE09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FA82C-8A2A-4BF4-85B7-8752343F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AB114-810B-4AC9-8D63-0988E4D3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34F7E-E372-464D-A208-BDAABF8C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672C5-6270-49C1-B61F-898DB82A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F85E1-E717-4304-BD20-F9238616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436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436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2F21D-18ED-4A5A-ADE6-89756568FE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7B9AAB-B05A-4833-BA9A-49949FC0B1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5AA3E-09D5-4083-B9F4-398D8050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2F9C26-D5A5-4A3D-8978-7E017822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B6EA8F-1EFC-43C3-9DF2-49FF8A35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F80620-284C-41B4-9222-3B3BE92E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FC9824-11BA-42C5-8CFB-E194042D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803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9C18A2-6081-4236-84AE-BED9622C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C084AB-727C-4FDC-84D6-188E91BF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8C46D4-0BBB-456A-8794-60C8F6C5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4CF8DE-55DC-4CFA-BF04-4F55C4A8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EA67BA-985C-4D2A-B173-A46F7CD8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9BB974-0D04-4727-B46B-B527D229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803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FF3D-8152-45AC-BC78-35B6DA65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436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436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848699-AA27-46FF-AB83-2A8654889E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9C7AE-5BE9-4E9F-B928-9C22DEF0CD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8DA26-029E-4C8E-A30D-C70F31A2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445AE-CD0F-4A61-AD0F-DB5607D6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70759-4709-4B80-9A8D-D5F97518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CAAD9-2291-4545-B7E3-A20954F5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803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E566F-5E59-4B47-9407-996DB8D5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26998-0156-41B6-8C52-2AB80C6E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FA66B-1275-44E9-87F6-60F9D1D4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DA866-F87E-4AC9-8065-638E7F0D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B7C5-3C91-4BF9-AEB2-DA009743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7EAE7-F771-40A7-AD3F-D7C3AD69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A710A-2DA6-4369-B2FB-C9E92353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436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436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2323D-403C-45CB-9E26-52568F320C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FCDEE-531E-4E96-B488-59293DE926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95E326-9EC8-4F37-A2E2-9AD7A9C1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CD581-8187-4AA9-AE86-7FF47FA4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BA093B-5836-4FCF-8F25-C5E2A4D4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57492E-CC6F-4944-9C93-39D931EE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803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16BAE6-191B-457F-B6AD-263A1692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EC951-05EC-4884-8638-9E97D0F3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9221C-B297-4D4C-BEBA-967F5F64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339258-D405-47C9-AA66-79D441C5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ADE1A-AC80-4404-B634-4FDB0627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177403-AE39-4A18-BE40-68EFB22A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65DAC-F6D3-4ED6-AD23-DFDFD921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436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436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68584-93B7-4CB8-9AF1-08E20D0124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BBBDBC-B1ED-457A-B0BD-BF6040C43E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F6215A-C77F-423A-93CE-48985CCF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4DE836-0622-4B7E-818C-2E3368C1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6914EC-DB3A-4127-A548-C59F2B32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4C6A37-E1ED-4852-9B47-3F2681FB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6BB04-4900-4447-9AD5-1F5B4DAB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6803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2860B7-B7EF-4D7B-8F95-4396DDF5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892DCD-7017-44EE-B657-609DDCF5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F5CD19-1C0C-48E0-8BBE-09B72DB0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69174D-B645-41B8-952E-733C17CD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4640"/>
            <a:ext cx="86803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762893-5800-419C-A748-EA209217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2720" y="155376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2720" y="3914640"/>
            <a:ext cx="4235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348BDE-C6B2-4854-BDDD-9A18566B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4360" y="155376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4360" y="3914640"/>
            <a:ext cx="27946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0AB7CA-D4B5-4D51-B992-600C97ADF7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5E017-4C0B-4558-AA6D-A42F66AC1B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21A0C-393A-4DAC-8C2C-FBBA25A3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FE934-BC66-49F5-93ED-A88C7F29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08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763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240" y="6477120"/>
            <a:ext cx="755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56D07-A6FB-449E-ADD9-A2D889C31197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6760" y="75960"/>
            <a:ext cx="250812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600" y="6473520"/>
            <a:ext cx="752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DCA9CCD-1EDA-45C5-AB85-22000B6689C6}" type="slidenum"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6760" y="75960"/>
            <a:ext cx="250812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600" y="6473520"/>
            <a:ext cx="752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6ACBD85-87D7-43F2-9B0A-D6DBF796FC7C}" type="slidenum"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6760" y="75960"/>
            <a:ext cx="250812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240" y="647676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8E9E61B-D227-4F13-AD8A-0D587533F54F}" type="slidenum"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6760" y="75960"/>
            <a:ext cx="250812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240" y="647676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0F6C9B8-98E8-4CC3-9344-665445442109}" type="slidenum"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6760" y="75960"/>
            <a:ext cx="250812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BBF7A33-0AD2-4E22-9040-C0CABFA44FE9}" type="slidenum"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6760" y="75960"/>
            <a:ext cx="250812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240" y="647676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FFA9DC0-F6EA-4B13-99D5-40C17308F6EB}" type="slidenum"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6760" y="75960"/>
            <a:ext cx="250812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240" y="647676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5029AAD-D250-4919-B825-766056CB2A50}" type="slidenum"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032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03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6760" y="75960"/>
            <a:ext cx="250812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55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C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B8FF696-9D55-4EB3-95D9-BAAEFB5F79B4}" type="slidenum">
              <a:rPr b="0" lang="en-C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720720" y="4257720"/>
            <a:ext cx="8474040" cy="1322280"/>
            <a:chOff x="720720" y="4257720"/>
            <a:chExt cx="8474040" cy="1322280"/>
          </a:xfrm>
        </p:grpSpPr>
        <p:pic>
          <p:nvPicPr>
            <p:cNvPr id="400" name="" descr=""/>
            <p:cNvPicPr/>
            <p:nvPr/>
          </p:nvPicPr>
          <p:blipFill>
            <a:blip r:embed="rId2"/>
            <a:stretch/>
          </p:blipFill>
          <p:spPr>
            <a:xfrm>
              <a:off x="720720" y="4257720"/>
              <a:ext cx="84740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720720" y="4257720"/>
              <a:ext cx="84740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2495520" cy="18716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071880" y="5494320"/>
            <a:ext cx="2898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c1900"/>
                </a:solidFill>
                <a:latin typeface="Franklin Gothic Book"/>
              </a:rPr>
              <a:t>Artur Klimaszewski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371520" y="3602160"/>
            <a:ext cx="8570880" cy="1487520"/>
            <a:chOff x="371520" y="3602160"/>
            <a:chExt cx="8570880" cy="1487520"/>
          </a:xfrm>
        </p:grpSpPr>
        <p:pic>
          <p:nvPicPr>
            <p:cNvPr id="437" name="" descr=""/>
            <p:cNvPicPr/>
            <p:nvPr/>
          </p:nvPicPr>
          <p:blipFill>
            <a:blip r:embed="rId2"/>
            <a:stretch/>
          </p:blipFill>
          <p:spPr>
            <a:xfrm>
              <a:off x="371520" y="3602160"/>
              <a:ext cx="857088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371520" y="3602160"/>
              <a:ext cx="8570880" cy="14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468360" y="5013360"/>
            <a:ext cx="837864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Trudności w rozróżnieniu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285840" y="938160"/>
            <a:ext cx="8864640" cy="1440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657360" y="2276640"/>
            <a:ext cx="8378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Cen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Wartość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212760" y="450720"/>
            <a:ext cx="8785080" cy="1152720"/>
            <a:chOff x="212760" y="450720"/>
            <a:chExt cx="8785080" cy="1152720"/>
          </a:xfrm>
        </p:grpSpPr>
        <p:pic>
          <p:nvPicPr>
            <p:cNvPr id="443" name="" descr=""/>
            <p:cNvPicPr/>
            <p:nvPr/>
          </p:nvPicPr>
          <p:blipFill>
            <a:blip r:embed="rId2"/>
            <a:stretch/>
          </p:blipFill>
          <p:spPr>
            <a:xfrm>
              <a:off x="212760" y="450720"/>
              <a:ext cx="878508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12760" y="450720"/>
              <a:ext cx="878508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304920" y="1600200"/>
            <a:ext cx="41907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Herbatniki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Mrożony broku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Groszek zielony z puszki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Sardynki z puszki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Ryba morska wędzon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Zupa z proszku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Makaron z mąki razowej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1600200"/>
            <a:ext cx="4343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Kefir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Biały ser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Kiszona kapust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Kiełbasa krakowsk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Ryba w galareci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4e3b30"/>
                </a:solidFill>
                <a:latin typeface="Franklin Gothic Book"/>
              </a:rPr>
              <a:t>Ekologiczne mleko pasteryzowan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341280" y="255600"/>
            <a:ext cx="8699400" cy="1152360"/>
            <a:chOff x="341280" y="255600"/>
            <a:chExt cx="8699400" cy="1152360"/>
          </a:xfrm>
        </p:grpSpPr>
        <p:pic>
          <p:nvPicPr>
            <p:cNvPr id="448" name="" descr=""/>
            <p:cNvPicPr/>
            <p:nvPr/>
          </p:nvPicPr>
          <p:blipFill>
            <a:blip r:embed="rId2"/>
            <a:stretch/>
          </p:blipFill>
          <p:spPr>
            <a:xfrm>
              <a:off x="341280" y="255600"/>
              <a:ext cx="86994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341280" y="255600"/>
              <a:ext cx="86994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304920" y="1554120"/>
            <a:ext cx="868680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żywność naturaln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      ↓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żywność minimalnie przetworzon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      ↓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żywność przetworzon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(poddana wysokiej temperaturze, dodatki chemiczne, dodatek sacharozy lub fruktuzy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      ↓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Żywność nienaturalna 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(olestra, słodziki, wzmacniacze smakowe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244440" y="255600"/>
            <a:ext cx="8697960" cy="1152360"/>
            <a:chOff x="244440" y="255600"/>
            <a:chExt cx="8697960" cy="1152360"/>
          </a:xfrm>
        </p:grpSpPr>
        <p:pic>
          <p:nvPicPr>
            <p:cNvPr id="452" name="" descr=""/>
            <p:cNvPicPr/>
            <p:nvPr/>
          </p:nvPicPr>
          <p:blipFill>
            <a:blip r:embed="rId2"/>
            <a:stretch/>
          </p:blipFill>
          <p:spPr>
            <a:xfrm>
              <a:off x="244440" y="255600"/>
              <a:ext cx="86979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244440" y="255600"/>
              <a:ext cx="86979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4e3b30"/>
                </a:solidFill>
                <a:latin typeface="Franklin Gothic Book"/>
              </a:rPr>
              <a:t>Dieta Inuitów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4e3b30"/>
                </a:solidFill>
                <a:latin typeface="Franklin Gothic Book"/>
              </a:rPr>
              <a:t>Dieta Indian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4e3b30"/>
                </a:solidFill>
                <a:latin typeface="Franklin Gothic Book"/>
              </a:rPr>
              <a:t>Dieta Masajów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4e3b30"/>
                </a:solidFill>
                <a:latin typeface="Franklin Gothic Book"/>
              </a:rPr>
              <a:t>Wszystkie zapewniają małą ilość chorób cywilizacyjnych, przejście na dietę naturalną często wiąże się z szybką poprawą stanu zdrowia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700" spc="-1" strike="noStrike">
                <a:solidFill>
                  <a:srgbClr val="4e3b30"/>
                </a:solidFill>
                <a:latin typeface="Franklin Gothic Book"/>
              </a:rPr>
              <a:t>Paradoks</a:t>
            </a:r>
            <a:r>
              <a:rPr b="0" lang="pl-PL" sz="2700" spc="-1" strike="noStrike">
                <a:solidFill>
                  <a:srgbClr val="4e3b30"/>
                </a:solidFill>
                <a:latin typeface="Franklin Gothic Book"/>
              </a:rPr>
              <a:t>: średnia długość życia na diecie zachodniej jest dłuższa, ale wynika z usunięcia wielu innych czynników ryzyka: mniej konfliktów zbrojnych, mniejsza umieralność niemowląt, przestronniejsze mieszkania, szczepienia, pomoc medyczna, łagodniejszy klimat. 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244440" y="255600"/>
            <a:ext cx="8697960" cy="1603440"/>
            <a:chOff x="244440" y="255600"/>
            <a:chExt cx="8697960" cy="1603440"/>
          </a:xfrm>
        </p:grpSpPr>
        <p:pic>
          <p:nvPicPr>
            <p:cNvPr id="456" name="" descr=""/>
            <p:cNvPicPr/>
            <p:nvPr/>
          </p:nvPicPr>
          <p:blipFill>
            <a:blip r:embed="rId2"/>
            <a:stretch/>
          </p:blipFill>
          <p:spPr>
            <a:xfrm>
              <a:off x="244440" y="255600"/>
              <a:ext cx="86979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244440" y="255600"/>
              <a:ext cx="869796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304920" y="2421000"/>
            <a:ext cx="868680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Spożywaj tylko prawdziwą żywność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Nie jedz do syt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Koncentruj się na warzywach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244440" y="-6480"/>
            <a:ext cx="8697960" cy="1305000"/>
            <a:chOff x="244440" y="-6480"/>
            <a:chExt cx="8697960" cy="1305000"/>
          </a:xfrm>
        </p:grpSpPr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244440" y="-6480"/>
              <a:ext cx="86979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244440" y="-6480"/>
              <a:ext cx="8697960" cy="13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304920" y="1554120"/>
            <a:ext cx="8686800" cy="74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4e3b30"/>
                </a:solidFill>
                <a:latin typeface="Franklin Gothic Book"/>
              </a:rPr>
              <a:t>Wybrane 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4e3b30"/>
                </a:solidFill>
                <a:latin typeface="Franklin Gothic Book"/>
              </a:rPr>
              <a:t>przetwory z mleka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owoc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4e3b30"/>
                </a:solidFill>
                <a:latin typeface="Franklin Gothic Book"/>
              </a:rPr>
              <a:t>mięso i ryby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4e3b30"/>
                </a:solidFill>
                <a:latin typeface="Franklin Gothic Book"/>
              </a:rPr>
              <a:t>pełne ziarna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600" spc="-1" strike="noStrike">
                <a:solidFill>
                  <a:srgbClr val="4e3b30"/>
                </a:solidFill>
                <a:latin typeface="Franklin Gothic Book"/>
              </a:rPr>
              <a:t>w a r z y w a</a:t>
            </a:r>
            <a:endParaRPr b="0" lang="en-US" sz="9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133200" y="450720"/>
            <a:ext cx="9017280" cy="5450040"/>
            <a:chOff x="133200" y="450720"/>
            <a:chExt cx="9017280" cy="5450040"/>
          </a:xfrm>
        </p:grpSpPr>
        <p:pic>
          <p:nvPicPr>
            <p:cNvPr id="464" name="" descr=""/>
            <p:cNvPicPr/>
            <p:nvPr/>
          </p:nvPicPr>
          <p:blipFill>
            <a:blip r:embed="rId2"/>
            <a:stretch/>
          </p:blipFill>
          <p:spPr>
            <a:xfrm>
              <a:off x="133200" y="450720"/>
              <a:ext cx="9017280" cy="545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133200" y="450720"/>
              <a:ext cx="9017280" cy="54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539640" y="333360"/>
            <a:ext cx="81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ie jedz żywności, która zawiera jakikolwiek cukier wymieniony na początku spisu składników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"/>
          <p:cNvSpPr/>
          <p:nvPr/>
        </p:nvSpPr>
        <p:spPr>
          <a:xfrm>
            <a:off x="450720" y="2228760"/>
            <a:ext cx="81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Sceptycznie odnoś się do żywności, która na opakowaniu ogłasza się, że jest zdrowa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"/>
          <p:cNvSpPr/>
          <p:nvPr/>
        </p:nvSpPr>
        <p:spPr>
          <a:xfrm>
            <a:off x="503280" y="4199040"/>
            <a:ext cx="81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ie jedz żywności niskotłuszczowej, ponieważ producenci zmuszeni są dla zachowania smaku dodawać więcej cukru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684360" y="3240000"/>
            <a:ext cx="8135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Robiąc zakupy skoncentruj się na obwodzie sklepu, gdzie prawie zawsze znajdują się produkty naturalne lub najmniej przetworzon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0" name=""/>
          <p:cNvSpPr/>
          <p:nvPr/>
        </p:nvSpPr>
        <p:spPr>
          <a:xfrm>
            <a:off x="684360" y="539640"/>
            <a:ext cx="8135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ie jedz żywności  będącej imitacją innej żywności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"/>
          <p:cNvSpPr/>
          <p:nvPr/>
        </p:nvSpPr>
        <p:spPr>
          <a:xfrm>
            <a:off x="684360" y="5219640"/>
            <a:ext cx="8135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ie jedz żywności , która nie gnije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lub nie psuje się z czasem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"/>
          <p:cNvSpPr/>
          <p:nvPr/>
        </p:nvSpPr>
        <p:spPr>
          <a:xfrm>
            <a:off x="682560" y="1619280"/>
            <a:ext cx="8137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Unikaj soków z warzyw i owoców; zawierają skoncentrowane cukry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a nie zawierają błonnika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539640" y="333360"/>
            <a:ext cx="81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Kupuj żywność na stoiskach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i bazarach zaopatrywanych bezpośrednio przez lokalnych rolników i ogrodników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4" name=""/>
          <p:cNvSpPr/>
          <p:nvPr/>
        </p:nvSpPr>
        <p:spPr>
          <a:xfrm>
            <a:off x="539640" y="2519280"/>
            <a:ext cx="81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Jeżeli możesz wybieraj wyroby domowe, a nie te wyprodukowane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w fabrykach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5" name=""/>
          <p:cNvSpPr/>
          <p:nvPr/>
        </p:nvSpPr>
        <p:spPr>
          <a:xfrm>
            <a:off x="539640" y="4437000"/>
            <a:ext cx="8460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Uwzględniaj warzywa liściaste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w codziennej diecie (szpinak, sałata, kapusta, etc.)  przynajmniej 1 szklanka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49320" y="255600"/>
            <a:ext cx="8893080" cy="1152360"/>
            <a:chOff x="49320" y="255600"/>
            <a:chExt cx="8893080" cy="1152360"/>
          </a:xfrm>
        </p:grpSpPr>
        <p:pic>
          <p:nvPicPr>
            <p:cNvPr id="405" name="" descr=""/>
            <p:cNvPicPr/>
            <p:nvPr/>
          </p:nvPicPr>
          <p:blipFill>
            <a:blip r:embed="rId2"/>
            <a:stretch/>
          </p:blipFill>
          <p:spPr>
            <a:xfrm>
              <a:off x="49320" y="255600"/>
              <a:ext cx="889308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320" y="255600"/>
              <a:ext cx="889308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04920" y="1557360"/>
            <a:ext cx="8686800" cy="62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Na co trzeba uważać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Niezgodność ekspertów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Minimalny nadzór nad produkcją żywności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Dietetyczni guru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Słowa robiące wrażenie</a:t>
            </a:r>
            <a:r>
              <a:rPr b="0" lang="en-CA" sz="3200" spc="-1" strike="noStrike">
                <a:solidFill>
                  <a:srgbClr val="4e3b30"/>
                </a:solidFill>
                <a:latin typeface="Franklin Gothic Book"/>
              </a:rPr>
              <a:t> – marketing nienaturalnej </a:t>
            </a: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żywności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Postrzeganie żywności</a:t>
            </a:r>
            <a:r>
              <a:rPr b="0" lang="en-CA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przez pryzmat zawartości</a:t>
            </a:r>
            <a:r>
              <a:rPr b="0" lang="en-CA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składników odżywczych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Reguła 50 l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539640" y="360360"/>
            <a:ext cx="8136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Jeżeli chodzi o białko zwierzęce, to zwróć uwagę zwłaszcza na dzikie ryby oraz drób, unikaj wieprzowiny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i wołowiny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"/>
          <p:cNvSpPr/>
          <p:nvPr/>
        </p:nvSpPr>
        <p:spPr>
          <a:xfrm>
            <a:off x="539640" y="256860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Wybierając warzywa i owoce szukaj intensywnych kolorów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"/>
          <p:cNvSpPr/>
          <p:nvPr/>
        </p:nvSpPr>
        <p:spPr>
          <a:xfrm>
            <a:off x="539640" y="4656240"/>
            <a:ext cx="813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igdy nie marnuj wywaru z jarzyn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539640" y="33336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Jeżeli jesz mięso i ryby to szukaj takich, które były zdrowo karmion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"/>
          <p:cNvSpPr/>
          <p:nvPr/>
        </p:nvSpPr>
        <p:spPr>
          <a:xfrm>
            <a:off x="539640" y="2160720"/>
            <a:ext cx="81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Spożywaj warzywa i owoce, które rosły na zdrowej, niezanieczyszczonej glebie i w czystym powietrzu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1" name=""/>
          <p:cNvSpPr/>
          <p:nvPr/>
        </p:nvSpPr>
        <p:spPr>
          <a:xfrm>
            <a:off x="539640" y="468000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iezwykle ceń dzikie ryby, dziczyznę oraz produkty leśne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539640" y="82872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Szanuj i często używaj żywności fermentowanej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2160720"/>
            <a:ext cx="813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ie dosładzaj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"/>
          <p:cNvSpPr/>
          <p:nvPr/>
        </p:nvSpPr>
        <p:spPr>
          <a:xfrm>
            <a:off x="539640" y="465624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Zrezygnuj z białych mąk, również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z białej mąki żytniej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5" name=""/>
          <p:cNvSpPr/>
          <p:nvPr/>
        </p:nvSpPr>
        <p:spPr>
          <a:xfrm>
            <a:off x="539640" y="306864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Doceń warzywa strączkowe będące bogatym źródłem białka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539640" y="333360"/>
            <a:ext cx="81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Jeżeli bardzo kusi cię Junk Food to go jedz pod warunkiem wszakże, że sam  przyrządzisz, a nie kupisz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7" name=""/>
          <p:cNvSpPr/>
          <p:nvPr/>
        </p:nvSpPr>
        <p:spPr>
          <a:xfrm>
            <a:off x="539640" y="4140360"/>
            <a:ext cx="8136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ie jedz nigdy do syta i pilnuj, aby zjeść śniadanie w ciągu pierwszych dwóch godzin dnia. Śniadanie może być jednym z bardziej kalorycznych posiłków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1979640"/>
            <a:ext cx="81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Eksperymentuj z wybranymi przepisami kuchni francuskiej, włoskiej, greckiej, dalekowschodniej i japońskiej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539640" y="33336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Jedz głównie dla zaspokojenia głodu, a nie np. dla przyjemności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"/>
          <p:cNvSpPr/>
          <p:nvPr/>
        </p:nvSpPr>
        <p:spPr>
          <a:xfrm>
            <a:off x="503280" y="1800360"/>
            <a:ext cx="8136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Opieraj się na poprzednio pokazanej  na przezroczu piramidzie pokarmowej, ale przepisy układaj wg pokarmów, które lubisz; nie jedz nic na siłę, tylko dlatego, że jest zdrow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"/>
          <p:cNvSpPr/>
          <p:nvPr/>
        </p:nvSpPr>
        <p:spPr>
          <a:xfrm>
            <a:off x="539640" y="474336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Przeżuwaj każdy kęs (np 20 razy)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i przestań jeść kiedy zaspokoisz głód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39640" y="333360"/>
            <a:ext cx="8136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ie jedz wieczorem na 2 – 3 godziny przed snem; jeżeli musisz np. dlatego, że wymaga tego lek lub czujesz nadmierny głód, to niech to będzie coś ubogiego w węglowodany, np. orzech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3" name=""/>
          <p:cNvSpPr/>
          <p:nvPr/>
        </p:nvSpPr>
        <p:spPr>
          <a:xfrm>
            <a:off x="611280" y="3284640"/>
            <a:ext cx="813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Zwracaj uwagę na to co jesz, nie jedz oglądając TV, prowadząc samochód etc.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"/>
          <p:cNvSpPr/>
          <p:nvPr/>
        </p:nvSpPr>
        <p:spPr>
          <a:xfrm>
            <a:off x="692280" y="4943520"/>
            <a:ext cx="8135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O ile to możliwe to jedz posiłki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z rodziną lub przyjaciółmi (nawet jeżeli twoja dieta jest inna)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539640" y="333360"/>
            <a:ext cx="81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Jeżeli musisz jeść słodycze i łakocie, to ogranicz ich spożywanie do świąt lub niedzi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"/>
          <p:cNvSpPr/>
          <p:nvPr/>
        </p:nvSpPr>
        <p:spPr>
          <a:xfrm>
            <a:off x="539640" y="1989000"/>
            <a:ext cx="8136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ie czuj się w obowiązku zawsze opróżnić talerz do czysta; w ten sposób i tak nie uratujesz żadnego głodującego dziecka z Afryki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"/>
          <p:cNvSpPr/>
          <p:nvPr/>
        </p:nvSpPr>
        <p:spPr>
          <a:xfrm>
            <a:off x="539640" y="4140360"/>
            <a:ext cx="8101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Hoduj część swojej żywności, choćby w doniczce na oknie, jeśli nie masz ogródka; przynajmniej część swojego jedzenia sam przyrządzaj, nawet jeżeli łatwiej kupić gotow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682560" y="3119400"/>
            <a:ext cx="83170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9" name=""/>
          <p:cNvSpPr/>
          <p:nvPr/>
        </p:nvSpPr>
        <p:spPr>
          <a:xfrm>
            <a:off x="539640" y="720720"/>
            <a:ext cx="8136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Indeks glikemiczny żywności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jest skutecznym narzędziem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w zapobieganiu grzybicom 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Prawdziwa, 85-95% czekolada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Franklin Gothic Book"/>
              </a:rPr>
              <a:t>Należy do zdrowej żywności i może być konsumowana w niewielkich ilościach codzienni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365040" y="255600"/>
            <a:ext cx="8894880" cy="1152360"/>
            <a:chOff x="365040" y="255600"/>
            <a:chExt cx="8894880" cy="1152360"/>
          </a:xfrm>
        </p:grpSpPr>
        <p:pic>
          <p:nvPicPr>
            <p:cNvPr id="501" name="" descr=""/>
            <p:cNvPicPr/>
            <p:nvPr/>
          </p:nvPicPr>
          <p:blipFill>
            <a:blip r:embed="rId2"/>
            <a:stretch/>
          </p:blipFill>
          <p:spPr>
            <a:xfrm>
              <a:off x="365040" y="255600"/>
              <a:ext cx="889488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365040" y="255600"/>
              <a:ext cx="889488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4e3b30"/>
                </a:solidFill>
                <a:latin typeface="Franklin Gothic Book"/>
              </a:rPr>
              <a:t>Dan Buettner: </a:t>
            </a:r>
            <a:r>
              <a:rPr b="1" lang="en-CA" sz="3200" spc="-1" strike="noStrike">
                <a:solidFill>
                  <a:srgbClr val="4e3b30"/>
                </a:solidFill>
                <a:latin typeface="Franklin Gothic Book"/>
              </a:rPr>
              <a:t>The Blue Zone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4e3b30"/>
                </a:solidFill>
                <a:latin typeface="Franklin Gothic Book"/>
              </a:rPr>
              <a:t>Michael Pollan: Food Rule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4e3b30"/>
                </a:solidFill>
                <a:latin typeface="Franklin Gothic Book"/>
              </a:rPr>
              <a:t>Michael F. Roizen, Mehmet C. Oz</a:t>
            </a:r>
            <a:r>
              <a:rPr b="1" lang="pl-PL" sz="3200" spc="-1" strike="noStrike">
                <a:solidFill>
                  <a:srgbClr val="4e3b30"/>
                </a:solidFill>
                <a:latin typeface="Franklin Gothic Book"/>
              </a:rPr>
              <a:t> :  You on a diet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450720" y="255600"/>
            <a:ext cx="8699760" cy="1152360"/>
            <a:chOff x="450720" y="255600"/>
            <a:chExt cx="8699760" cy="115236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450720" y="255600"/>
              <a:ext cx="86997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450720" y="255600"/>
              <a:ext cx="86997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Stan na dzień dzisiejsz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Dieta „zachodnia” (skąd się wzięła?) i jej wad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Ewentualny związek diety z boreliozą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Jaki z tego  wniosek i możliwość interwencji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298440" y="365040"/>
            <a:ext cx="8699400" cy="2238480"/>
            <a:chOff x="298440" y="365040"/>
            <a:chExt cx="8699400" cy="2238480"/>
          </a:xfrm>
        </p:grpSpPr>
        <p:pic>
          <p:nvPicPr>
            <p:cNvPr id="413" name="" descr=""/>
            <p:cNvPicPr/>
            <p:nvPr/>
          </p:nvPicPr>
          <p:blipFill>
            <a:blip r:embed="rId2"/>
            <a:stretch/>
          </p:blipFill>
          <p:spPr>
            <a:xfrm>
              <a:off x="298440" y="365040"/>
              <a:ext cx="869940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298440" y="365040"/>
              <a:ext cx="8699400" cy="22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1908000" y="2852640"/>
            <a:ext cx="708372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Źródło obserwacji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Próba wyjaśnieni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450720" y="255600"/>
            <a:ext cx="8699760" cy="1152360"/>
            <a:chOff x="450720" y="255600"/>
            <a:chExt cx="8699760" cy="1152360"/>
          </a:xfrm>
        </p:grpSpPr>
        <p:pic>
          <p:nvPicPr>
            <p:cNvPr id="417" name="" descr=""/>
            <p:cNvPicPr/>
            <p:nvPr/>
          </p:nvPicPr>
          <p:blipFill>
            <a:blip r:embed="rId2"/>
            <a:stretch/>
          </p:blipFill>
          <p:spPr>
            <a:xfrm>
              <a:off x="450720" y="255600"/>
              <a:ext cx="86997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450720" y="255600"/>
              <a:ext cx="86997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Trudność w ocenie co jest ważniejsz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-  życie w miastach (pyły, stres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- bezruch (choroba, TV, komputer, samochód etc.)   - wpływ na układ krążenia, oddychania, wydalani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Zanieczyszczenia chemiczne, używki, leki, narkotyki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Brak poczucia wspólnoty plemiennej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298440" y="450720"/>
            <a:ext cx="8699400" cy="1152720"/>
            <a:chOff x="298440" y="450720"/>
            <a:chExt cx="8699400" cy="1152720"/>
          </a:xfrm>
        </p:grpSpPr>
        <p:pic>
          <p:nvPicPr>
            <p:cNvPr id="421" name="" descr=""/>
            <p:cNvPicPr/>
            <p:nvPr/>
          </p:nvPicPr>
          <p:blipFill>
            <a:blip r:embed="rId2"/>
            <a:stretch/>
          </p:blipFill>
          <p:spPr>
            <a:xfrm>
              <a:off x="298440" y="450720"/>
              <a:ext cx="869940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98440" y="450720"/>
              <a:ext cx="869940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04920" y="1554120"/>
            <a:ext cx="86868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Czasy przedrolnicz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Czasy pierwszych gospodarstw z uprawą roślin i hodowlą zwierzą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Ulepszanie żywności poprzez dobó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Chemizacja  (wzrost plonu, ochrona przed szkodnikami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Inżynieria genetyczn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Wynalazki żywnościow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"/>
          <p:cNvGrpSpPr/>
          <p:nvPr/>
        </p:nvGrpSpPr>
        <p:grpSpPr>
          <a:xfrm>
            <a:off x="103320" y="450720"/>
            <a:ext cx="8894520" cy="1152720"/>
            <a:chOff x="103320" y="450720"/>
            <a:chExt cx="8894520" cy="1152720"/>
          </a:xfrm>
        </p:grpSpPr>
        <p:pic>
          <p:nvPicPr>
            <p:cNvPr id="425" name="" descr=""/>
            <p:cNvPicPr/>
            <p:nvPr/>
          </p:nvPicPr>
          <p:blipFill>
            <a:blip r:embed="rId2"/>
            <a:stretch/>
          </p:blipFill>
          <p:spPr>
            <a:xfrm>
              <a:off x="103320" y="450720"/>
              <a:ext cx="88945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103320" y="450720"/>
              <a:ext cx="88945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Prowadzona w ukryciu przed opinią publiczną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Wprowadzana stopniowo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Brak zasad etyki w produkcji: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- fermy hodowlan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- nowatorskie źródła żywności dla zwierzą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- nowatorskie źródła nawozów sztucznych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Żywność potencjalnie niedoborowa opierająca się o zaledwie kilka wysokoplennych rośli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304920" y="981000"/>
            <a:ext cx="8686800" cy="65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Środki wydłużające przydatność do spożyci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A. Manipulacje genetyczn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B. Chemi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C. Napromieniowani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D. Azo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E. Mrożeni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Środki poprawiające smak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A. Słodziki, fruktoz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B.  Glutaminia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Środki zastępujące oryginalne składniki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Poprawa wizualna żywności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A. Użycie nitratów do produktów mięsnych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B. Użycie atrakcyjnych opakowań apelujących do emocji oraz ukrywających wady produktu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e3b30"/>
                </a:solidFill>
                <a:latin typeface="Franklin Gothic Book"/>
              </a:rPr>
              <a:t>C. Barwienie łososi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9320" y="182520"/>
            <a:ext cx="8899560" cy="1152720"/>
            <a:chOff x="49320" y="182520"/>
            <a:chExt cx="8899560" cy="1152720"/>
          </a:xfrm>
        </p:grpSpPr>
        <p:pic>
          <p:nvPicPr>
            <p:cNvPr id="430" name="" descr=""/>
            <p:cNvPicPr/>
            <p:nvPr/>
          </p:nvPicPr>
          <p:blipFill>
            <a:blip r:embed="rId2"/>
            <a:stretch/>
          </p:blipFill>
          <p:spPr>
            <a:xfrm>
              <a:off x="49320" y="182520"/>
              <a:ext cx="88995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49320" y="182520"/>
              <a:ext cx="889956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298440" y="182520"/>
            <a:ext cx="8699400" cy="1152720"/>
            <a:chOff x="298440" y="182520"/>
            <a:chExt cx="8699400" cy="1152720"/>
          </a:xfrm>
        </p:grpSpPr>
        <p:pic>
          <p:nvPicPr>
            <p:cNvPr id="433" name="" descr=""/>
            <p:cNvPicPr/>
            <p:nvPr/>
          </p:nvPicPr>
          <p:blipFill>
            <a:blip r:embed="rId2"/>
            <a:stretch/>
          </p:blipFill>
          <p:spPr>
            <a:xfrm>
              <a:off x="298440" y="182520"/>
              <a:ext cx="869940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298440" y="182520"/>
              <a:ext cx="869940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04920" y="1554120"/>
            <a:ext cx="86868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Skala spożycia środków ochrony rośli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Substancje czynne roślin a nawoz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0" lang="pl-PL" sz="2000" spc="-1" strike="noStrike">
                <a:solidFill>
                  <a:srgbClr val="4e3b30"/>
                </a:solidFill>
                <a:latin typeface="Franklin Gothic Book"/>
              </a:rPr>
              <a:t>efekt „sterydowy”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4e3b30"/>
                </a:solidFill>
                <a:latin typeface="Franklin Gothic Book"/>
              </a:rPr>
              <a:t>Substancje czynne, a optymalność warunków wzrostu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e3b30"/>
                </a:solidFill>
                <a:latin typeface="Franklin Gothic Book"/>
              </a:rPr>
              <a:t>Przykłady substancji: Glutation (awokado), idolecarbinol  i sulforafan (Brokuł), karoten (marchew), kapsaicyna (ostra papryczka), luteina i zeaksantyna (kapustowate), lignanty (len) , bioflawonoidy (kolorowe owoce jagodowe), lentinan (grzyby jadalne takie jak  Shiitake, maitake</a:t>
            </a:r>
            <a:r>
              <a:rPr b="0" i="1" lang="pl-PL" sz="2000" spc="-1" strike="noStrike">
                <a:solidFill>
                  <a:srgbClr val="4e3b30"/>
                </a:solidFill>
                <a:latin typeface="Franklin Gothic Book"/>
              </a:rPr>
              <a:t>,</a:t>
            </a:r>
            <a:r>
              <a:rPr b="0" lang="pl-PL" sz="2000" spc="-1" strike="noStrike">
                <a:solidFill>
                  <a:srgbClr val="4e3b30"/>
                </a:solidFill>
                <a:latin typeface="Franklin Gothic Book"/>
              </a:rPr>
              <a:t> reishi, Agaricus blazei Murill), likopen (pomidory), resveratrol (pestki winogrona, wino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6600" indent="-336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08:03:43Z</dcterms:created>
  <dc:creator>Adam</dc:creator>
  <dc:description/>
  <dc:language>en-US</dc:language>
  <cp:lastModifiedBy>Adam</cp:lastModifiedBy>
  <dcterms:modified xsi:type="dcterms:W3CDTF">2010-09-01T10:33:38Z</dcterms:modified>
  <cp:revision>7</cp:revision>
  <dc:subject/>
  <dc:title>Uwagi na temat  żywienia</dc:title>
</cp:coreProperties>
</file>